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.wmf" ContentType="image/x-wmf"/>
  <Override PartName="/ppt/media/image41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.wmf" ContentType="image/x-wmf"/>
  <Override PartName="/ppt/media/image40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</p:sldIdLst>
  <p:sldSz cx="12193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dt" idx="42"/>
          </p:nvPr>
        </p:nvSpPr>
        <p:spPr>
          <a:xfrm>
            <a:off x="385596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Img"/>
          </p:nvPr>
        </p:nvSpPr>
        <p:spPr>
          <a:xfrm>
            <a:off x="423360" y="1243080"/>
            <a:ext cx="5961240" cy="335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ftr" idx="43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 type="sldNum" idx="44"/>
          </p:nvPr>
        </p:nvSpPr>
        <p:spPr>
          <a:xfrm>
            <a:off x="385596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9094-18E3-40AD-AE44-9C2339A181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6C59-8D19-4401-9754-C7AC9E2062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3E55-8EFE-425E-819A-BC760E7BF5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6083-4960-4DB8-98BA-7F63D7C139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D926-546F-4FDE-A415-F331C39A67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4B3A-B0A6-43B4-A83D-60E6FDB9EF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4D1B-9E02-428B-A922-5AA3BFA011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A989-A176-4D08-8A63-D4C82EE929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thers potentially coming on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7 Higher Education Instit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+ Health / Social care provi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B844-EC08-440D-B9D3-04004178FE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DADC-E2AE-4822-AE77-36A5975011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target groups but as yet not all have participa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9A84-E33E-4CD2-B301-15F92CB6D7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8088-58A5-4E40-B64F-F21E7E8B58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93E0-950B-42D9-A1DE-860538E4AA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6018-CE32-4608-8465-6C83767F7D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03BB-985A-4B2B-AA6A-23CB194BDB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118E-2C47-4630-8EFF-3EA4498F17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B84F-ACA0-4BD5-9B20-A77216B788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F810-7199-4009-85EE-12EBD56235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452520" y="528480"/>
            <a:ext cx="5960880" cy="335448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291960" y="4078440"/>
            <a:ext cx="6283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452520" y="528480"/>
            <a:ext cx="5960880" cy="335448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291960" y="4078440"/>
            <a:ext cx="6283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452520" y="528480"/>
            <a:ext cx="5960880" cy="335448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291960" y="4078440"/>
            <a:ext cx="6283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DF76-D2A7-4100-8921-4F973CDC73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FB98-03DE-42FA-9224-DCDBDD3D38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A38F-1BA8-46CA-B935-CFBF7A6326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B30-F8FE-432D-92D9-DE9E80DC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397-947E-4775-B544-04E095FF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70D72-1975-42E5-95E4-F4B704D3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9C019-196A-4CC7-A08A-2B77247B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B0BD9-C535-4F6B-A952-803805A8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6EB9C-AC8F-428F-9347-8E1B9518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7ECA1-DACD-407E-9FE1-F066F65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14FEC-002B-4D54-B12B-B2D94D1F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B505E-A249-4B74-AFA1-40514BD9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155AA-B93C-457F-8C09-97090CF9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41DC4-1085-4886-B3CD-15F636A5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A24D9-63F1-4BE0-B4AE-3B9AE096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E60-27A6-4F21-9A1A-07D76691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0F15B-C541-4370-8167-9A5C1199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B80FB-4880-40D8-9DF6-C58E389D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E302B-37C9-4AA6-B82E-4CEEDA72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F4F78-9267-47FE-9D55-B0F6DF8C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A3EE9-374A-406D-A068-4A28D5C7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0DF59-4B8E-42A0-B3CB-F17189E7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5DA47-A26C-4047-B53D-7BCDF670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0145C-194F-48FF-AC4A-3E662AAF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26C7B-D014-483C-AA95-200D542C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EEFBD-43EF-4798-8CD0-749A68C7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A81-AC96-4775-8A07-096CA23B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BBF00-5149-4E9E-8A8E-F3660070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C47EDA-3D2D-4088-A433-D817EEFBAB4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66E069-F2A2-4AD2-9831-3D5F1AF04BB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01AEFF-9142-4D93-87BB-4CAEABAF1CF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DD8E11-62F4-4360-A3A9-817A815324E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8658B7-20B0-40FA-B2CC-B2E0681E316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FBB8B6-5790-4950-95B3-6CB271156F3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950C6E-CBFD-4492-941C-527072DC7C9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B82C98-C885-4085-AD9A-2159601CE8D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A3550C-0BC0-407E-907E-EE0D23A4D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BD6F-78EA-4EE7-AE1D-07087A80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9580E6-B039-42EE-8F12-37280023E4B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654721-8B21-4F3D-AE73-2CCFC108450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22E3C5-1184-428E-981E-8C992C64E1D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CCA14E-CD6B-45E1-900C-73E7CFD6994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DF2D05-4C0D-4ECF-A941-75E28D60412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74CC3A-FCA2-4827-B81B-67FD9AE66F9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86021E-4610-4FCA-9BC5-39B7A04F5BB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9562A1-175F-419E-81E0-9773267A0A8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F9537A-E1DA-4F17-9B31-7C6A4C8609B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2D194C-36CE-4206-AD81-09663F73EC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D475-3DAB-4B42-95B3-B6B5C990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F5D005-F3FD-4AF7-8646-466EC2DE813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59648F-DBC4-4C4B-B278-C614E71DDFF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9B8A85-A2E3-48FB-A5EB-3B7BA1BE928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1A0A22-489D-45E5-9B09-1DAC325E356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15FC28-123F-4B95-96AA-63A347B095A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736CF-69C7-4D1C-A429-89D3132B609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1735C-8AD0-41AE-96BB-C5F4499A7D7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71E21-3A53-46A2-BA7B-A6B77D33E3B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42373-ED35-424B-A677-28E96F4E859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0C646-2E13-4048-9923-5DC9A91925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CDD8-522D-4F33-A499-70AFF0D3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E4325-5872-4DCE-9220-74D4347879D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56853-0BB1-406E-A3A7-D9169A02E76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95180-E945-4597-A22F-9892C5CFA61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C1F50-1FE5-4EF8-9F82-C3FEAFBC4D1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C10CE-91C1-42E1-B34A-D5557F265FC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4951B-F466-498C-A944-A719041DFF3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9D010-3028-4E70-9AD3-ED72B5C888E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CE09A-9906-4E3F-A7CA-0231ABE5D8B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F155E-84B6-450E-815A-B5B810F2615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A658D-1FF9-4A06-A3D2-8F1E8E76D5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FEDC-245D-4F6B-8AA9-38B5E0F2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C0F03-B6CC-4D70-986F-08536A1E2B9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0688F-1770-4A4C-BA85-0523FB032B9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87304-1111-4C1D-AFA9-A4DC48BBF13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688BBD-CF5A-42F2-8A29-962D99C75DA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FF10C-65D1-4945-A819-D79AC93045E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A0573-4C9E-457E-BE60-486D4CD8506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F0E6FE-F0CC-490F-8294-6593F5419E3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875DE-E48E-4396-A7F9-116C51FA885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C254AC-6891-4D5D-A7DC-75B99CB2AE5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5A92A5-53A0-4DE2-9FC4-C44514F886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E823-AD28-4C0A-8AFE-443E0606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734AE4-B6BD-434B-A537-7601186BC75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7EC76B-21DB-45E6-BA50-14AD7034586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3A561B-D58F-42FB-9652-A88E83B6E1C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0F67CF-2789-4432-8578-D4E72DBA9DD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626A94-2CAD-466C-89CD-6C660D80219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C3BF69-C503-4A61-9F2D-B37858E2579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F6F329-0B50-45A7-BF27-9D52D32AB7D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CCFFE3-8C0A-4604-B4D9-FBD08386E81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47DE48-DF78-4CC2-863D-E154B06D898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C2515C-F121-49FD-AF4D-01E857118B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337D-EFE4-42EE-ACD0-F44280EE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EA7E0F-D6FD-4216-B8F4-F79C8A32AA9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BEC5C-22CB-4F35-82CC-A4527B5A3E3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42047-32E4-4D18-8CB0-AB4F4D25EF5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A3EFB-7550-4A04-8816-D9452958D4E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62561-F662-4187-96EB-CBB9ABA0E90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4EB59-4EEB-4729-AC99-959C53EF9EA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29478-C729-4795-8EE6-3B80F733CA1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E5D7C-507D-4154-A534-C98DC511204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F2B0A-7E4B-44F8-8C9E-69BFB09BED7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FE9B6-F347-467C-BF79-3A1FE7565E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9517-4C2A-4E8A-AB3B-2BF3FCE6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A77D3-DD92-4DAE-B26B-2CEC9BB9F11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1B35A-0026-4A9C-B74B-71109526C77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0F0BD-4B29-4DD5-9670-C4D4F569892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A7F82C-1BE1-4C47-9835-646CE6635D6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FDE9CB-ED8A-43DB-B14E-197931537DF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879635-0865-46BD-9D17-F07EAA71928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A7DE29-97B7-4DE1-9DD1-DBBAC4F9B1A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9750B9-687C-4F92-BEC9-5FD902A9646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04B7F3-4608-4AA6-8BD8-44F51CE77AD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483582-3F59-48DD-9702-826D37A039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B72-2E7D-46B5-B850-1343BE95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0DFE-4F9E-4EF6-AEA5-43E4071B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C0F360-4C21-457E-B960-DCDDB5F8B76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9561B5-5BF5-441D-838E-A0318D87092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D282A3-687B-4E31-B4FF-56652B5CA2E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44EB8B-6976-4541-B1DB-8549C97F260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D278B1-AFD9-4C36-B040-5A40A35ED4D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D850A7-FE59-4B51-B404-5E8B7646AAC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4755AF-C81D-4839-83F1-650701E76E5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03E1A7-B2B4-4DBF-A2B4-A8116893183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B95680-3B0D-4CC7-A8B3-9689722E90B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20B90F-3329-4587-87E8-3A1D6331D4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5E33-DA86-4082-9F20-8045D7B0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B351CE-84D7-44AA-9404-3D8B52CEDE1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9A784C-CE76-4AF7-A516-25983439AF2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FD7241-58A3-4990-B5BA-585BD90BD87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8B0720-0060-4A61-9F20-02772BF4C6D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60303F-6577-4EBB-BCB1-905A94FBA0B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8B5438-2F2D-4A34-B612-DA6145B8BF0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0D5078-B3E8-4408-8155-EEC83F4546D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A3277-90AF-4C43-B572-552C05E7E58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DBCE2-014C-4167-AC84-B566FE966E7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19DF0-8ABB-4DD1-99FA-C1EFC3912D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C34B-3946-4121-A8FD-A2588F3C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5E2DC-861C-4FF7-950E-3C627949082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9D243-1197-4C4D-B711-9F92F8DA4E7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C28FA-661C-487C-8A37-924C5ACB204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94B25-B877-46F3-AC4E-C631260974D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EB4FF-B88D-4464-9E58-6A76660577A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96088-49E1-4E30-ACE9-CF9678221D5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99A1F-DAC7-41E2-910B-E33478379B8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A2FBAD-6557-4A94-84E2-DDDD3CD4044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8F20F2-7DCB-4564-A5DE-DFD1E4FC37D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0AC2BA-1958-47C1-9F66-1DA2F5DE5E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0811-4690-4107-9977-C2EDAC4C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545896C-6F4C-4A58-BB31-E913CAD0C2A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C422273-9593-433E-B4F0-EAB7B48D620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E1FC447-C204-4143-915B-8676F12E35D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2648EDC-70D2-46C4-8135-F4CA6CA8E27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BC8DC0-5A90-48E1-952E-18FDEC2EF37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B001B8-CB11-4FCA-BAE9-1EB70D9F52D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C83418-4E14-418C-A66F-018C6EB45CB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AF4841E-64B4-43DC-BDB5-FC3062EB013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CC1E5C-0B53-4DB8-8752-9482E859CB4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0CAA54-DCE2-44F4-9167-B0FA356D00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D718-E12A-4CA5-BB45-0E65CF1E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695D08-9154-405C-9F52-3F4BF26BB40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B35B6E-BC08-4627-85B8-426124106E4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99A28E-16CC-4E38-A062-C51E21040B4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690388A-0BF1-48DE-BB7D-F8DAEAC754B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36C0C9-0A90-4BF8-B20C-B287EB2B289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71A9DE-A27C-4D47-A9C2-B46F4041931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E2DBB7-BD1D-49C2-9DD8-99A8165E688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1F7A8E-F152-4CA1-B2CF-85766632192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B5B97F-3939-45AD-BDFF-EE8154ED1BD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416C59-1C3F-494F-830A-C95839B4A7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B8194-7C88-453D-89E1-89E6D335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333E38-29AC-4257-981A-4B97B944B90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4FA9A7-91E8-4E69-8116-52E22E4A670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83423E-5E3A-403C-832F-48D2BB09BC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D0AD8-A20E-4960-A2DC-3EDCD93B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98B3A-C412-4E62-A641-6A16C129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D6A66-A765-47FA-9A1F-94A92973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5E8F-26A3-4578-AE53-669CCE9A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8BDB-F111-4F1C-91A0-D67CB48A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0E16A-39D1-4D9B-AE64-35B387E2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4D263-8356-4B2B-843D-8BACF315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58959-06D4-4E82-B967-8654E23C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DAE0-CAA8-477C-B5DB-8972AEFF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7C4E-C2B5-4FFB-BA45-04980D86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0DD4E-C98A-43E7-A22B-D2961437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8B98-5708-4C38-8F2F-79C8F360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14A6A-2A05-4C90-AB19-AB3A13C5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886CC-64F4-4639-BB2E-C5EC3EB5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F22B3-43EC-4DF9-B28A-7C49D468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775-F8F4-492E-8FAF-CBA19384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EAB78-FCDB-4B06-A62D-EAB341E0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A7351-4A7E-4839-B847-DA9083FC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6EA20-6E9D-4BA5-8F9F-A63B34A3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0F347-5055-4FC0-A19C-9A80DBB4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30E10-2BB4-4433-954A-D66E5D24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0A080-C67E-459D-AA84-A0ABF32A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239B6-CF2C-4F6D-A074-BE18A754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782F2-7E5B-4190-9232-F577941C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08207-E484-42AF-A2A5-AAF0C74C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C6E65-339D-4900-9762-375BDEA5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B42-3891-43D6-9AF6-DC6B8B20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DCB0A-E1C3-4883-A32B-40668421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41634-7F78-460B-9CB1-3F9DCBA0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D7792-98D7-46EF-80C1-B27931A4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E03EB-8014-4862-BBFD-F90C5758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73E1D-9BBC-4514-8285-F27B6138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0BC32-E275-4EBF-81E8-DAB1EAEF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09BFA-2D52-4F26-BAF0-9F505130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5772D-8E69-45BA-BB44-19BFF89F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814FC-1F23-446F-9881-F2649E1A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F8060-F601-44D1-8D34-79CFD3AE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E7C-E007-431B-BFAD-11E0F591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16DB7-D931-4C78-89D9-ABC4F7F9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60404-12D5-4029-8CFB-54573EC7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F8D69-F2A0-4A66-8BA0-060F8259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7C82F-968B-4A39-846C-C249D487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95022-C7B4-494B-8489-025D1296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02714-52BA-457D-B082-6F2D904F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DE4C3-4AFC-4C69-8565-F130F633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BD646-A7EA-4F80-8FA4-1D4AA380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74741-B9C2-4CA7-ACE5-2D30A8EC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0BA4B-8C66-49C2-B080-A93F3982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68B-F6E7-47E2-A36B-BB99829F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7A68B-AB5A-4545-B8E2-79AEE910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B41F8-72B2-4BEF-9EA9-C2151324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39909-7245-4BF6-A354-6093CC02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F9DF1-9AB4-4749-B6D5-8894BF3D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A0990-DFCE-4BAE-A5C9-D6C4139D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CA5A5-F737-40A2-80DE-C6D3BD3C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D7676-1D4B-44DB-AB72-FD6CC0DB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248E9-4F74-45D2-AD5B-C4DF2C22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285E8-B52A-438A-A956-68C7C659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ABC61-580E-4167-AF0F-F3EDF29E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87A-6C0B-416F-8A5A-7B16D6AA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EFEC8-35B2-4DD5-A298-99A7099E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30D40-69B4-4FA9-815F-40A82C4A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8D654-CE5C-433F-B608-AE933081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F271B-0DC3-4E1A-8F81-7CB20406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B3435-D4B6-4760-9244-E554FAF0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FB864-B4C4-46BC-BB5A-F2EA65AB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4E6F2-10F5-4641-AAEF-9D2BDFDC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88632-F3E6-4118-93F8-656879ED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97B44-E33C-452F-BC91-B09FD6A8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EB163-64BE-483E-B8EC-073763DE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4D3-1923-4675-B14F-C2E0B74F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E84FD-CBAF-4A0C-9FD4-016FD137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31C26-58A1-41C6-8A86-E5D425F8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FD879-C9B5-4942-A2CA-F8141049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131F0-CCA5-4791-B232-B0051E44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A3C45-7736-44A6-995E-42360C9C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2423B-5295-4758-BBF6-E16C588E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81E5C-1F7A-49A3-AFB9-BE1FDF2E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ADC50-F8A0-4C0A-B0B7-B83709A4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774D3-1C1F-4CCE-A08C-6F212638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4151B-7BCD-42B1-B7A1-64088F6B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B5F7-48CC-4E0D-8774-550B99CB2A6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8246-FE9D-440A-B421-2FED42D841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3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1E5A-3C34-430A-85E0-E3DE9FDA9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3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9CA5-3C8D-483E-B7EE-954DFD36F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4D00-3541-4299-A7F9-29450BC33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Num" idx="3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CD52-133C-4D56-931E-6D7829709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Num" idx="3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77A1-66F0-4207-94DB-5718DCC1E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FF5E-7BD6-40DB-BA2C-ABF744256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Num" idx="3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ACA6-D658-4FBC-BB71-240D2581E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3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8909-6BBE-4AEF-BB32-CFA5ECB55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82E2-B24E-48D6-A7EF-C28E7EC9A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9DED-AC52-4E9E-980A-66777A6465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Num" idx="4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DBB8-27A6-48ED-95E8-52F6BD202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sldNum" idx="4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F537-CB64-497F-99CF-D02E292C1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4A18-5E48-47D1-BE28-22859BF5CD6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B226-0D92-4F07-A7E9-29F68F9D6CA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8B2A-398A-450B-BE11-4B7BD1BDCB2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F979-9C0A-4033-82D6-7095BF50808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6C14-CF39-4EBA-A79D-8F19DD19293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4F81-C49F-4BEE-AE03-4B56E6A9256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C9DA-32D9-4747-87E4-EC7723FF2B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9.png"/><Relationship Id="rId11" Type="http://schemas.openxmlformats.org/officeDocument/2006/relationships/image" Target="../media/image37.png"/><Relationship Id="rId12" Type="http://schemas.openxmlformats.org/officeDocument/2006/relationships/hyperlink" Target="http://www.newcastle-hospitals.org.uk/index.aspx" TargetMode="External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hyperlink" Target="https://www.slipps.eu/" TargetMode="External"/><Relationship Id="rId5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88720" y="235080"/>
            <a:ext cx="11667960" cy="13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e79"/>
                </a:solidFill>
                <a:latin typeface="Arial"/>
                <a:ea typeface="Arial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haring 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earn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g from 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ractice to improve 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atient 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afety 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(</a:t>
            </a:r>
            <a:r>
              <a:rPr b="0" i="1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LIPPS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7" name="Picture 1" descr=""/>
          <p:cNvPicPr/>
          <p:nvPr/>
        </p:nvPicPr>
        <p:blipFill>
          <a:blip r:embed="rId1"/>
          <a:stretch/>
        </p:blipFill>
        <p:spPr>
          <a:xfrm>
            <a:off x="4950000" y="2062080"/>
            <a:ext cx="2259000" cy="2676600"/>
          </a:xfrm>
          <a:prstGeom prst="rect">
            <a:avLst/>
          </a:prstGeom>
          <a:ln w="0">
            <a:noFill/>
          </a:ln>
        </p:spPr>
      </p:pic>
      <p:sp>
        <p:nvSpPr>
          <p:cNvPr id="848" name="TextBox 1"/>
          <p:cNvSpPr/>
          <p:nvPr/>
        </p:nvSpPr>
        <p:spPr>
          <a:xfrm>
            <a:off x="4524480" y="4856040"/>
            <a:ext cx="34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e75b6"/>
                </a:solidFill>
                <a:latin typeface="Calibri"/>
              </a:rPr>
              <a:t>https://www.slipps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9" name="Picture 2" descr=""/>
          <p:cNvPicPr/>
          <p:nvPr/>
        </p:nvPicPr>
        <p:blipFill>
          <a:blip r:embed="rId2"/>
          <a:stretch/>
        </p:blipFill>
        <p:spPr>
          <a:xfrm>
            <a:off x="550800" y="5559480"/>
            <a:ext cx="3092400" cy="88884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10" descr=""/>
          <p:cNvPicPr/>
          <p:nvPr/>
        </p:nvPicPr>
        <p:blipFill>
          <a:blip r:embed="rId3"/>
          <a:stretch/>
        </p:blipFill>
        <p:spPr>
          <a:xfrm>
            <a:off x="9593280" y="2679840"/>
            <a:ext cx="1585800" cy="10062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12" descr=""/>
          <p:cNvPicPr/>
          <p:nvPr/>
        </p:nvPicPr>
        <p:blipFill>
          <a:blip r:embed="rId4"/>
          <a:stretch/>
        </p:blipFill>
        <p:spPr>
          <a:xfrm>
            <a:off x="450720" y="3846600"/>
            <a:ext cx="1587600" cy="1006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13" descr=""/>
          <p:cNvPicPr/>
          <p:nvPr/>
        </p:nvPicPr>
        <p:blipFill>
          <a:blip r:embed="rId5"/>
          <a:stretch/>
        </p:blipFill>
        <p:spPr>
          <a:xfrm>
            <a:off x="10215720" y="3865680"/>
            <a:ext cx="1558800" cy="9874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14" descr=""/>
          <p:cNvPicPr/>
          <p:nvPr/>
        </p:nvPicPr>
        <p:blipFill>
          <a:blip r:embed="rId6"/>
          <a:stretch/>
        </p:blipFill>
        <p:spPr>
          <a:xfrm>
            <a:off x="1274760" y="2681280"/>
            <a:ext cx="1585800" cy="100476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15" descr=""/>
          <p:cNvPicPr/>
          <p:nvPr/>
        </p:nvPicPr>
        <p:blipFill>
          <a:blip r:embed="rId7"/>
          <a:stretch/>
        </p:blipFill>
        <p:spPr>
          <a:xfrm>
            <a:off x="2097000" y="1581120"/>
            <a:ext cx="1587600" cy="100008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4" descr=""/>
          <p:cNvPicPr/>
          <p:nvPr/>
        </p:nvPicPr>
        <p:blipFill>
          <a:blip r:embed="rId8"/>
          <a:stretch/>
        </p:blipFill>
        <p:spPr>
          <a:xfrm>
            <a:off x="4732200" y="5554800"/>
            <a:ext cx="2775240" cy="89352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13" descr=""/>
          <p:cNvPicPr/>
          <p:nvPr/>
        </p:nvPicPr>
        <p:blipFill>
          <a:blip r:embed="rId9"/>
          <a:stretch/>
        </p:blipFill>
        <p:spPr>
          <a:xfrm>
            <a:off x="8788320" y="5554800"/>
            <a:ext cx="2206800" cy="8935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2" descr=""/>
          <p:cNvPicPr/>
          <p:nvPr/>
        </p:nvPicPr>
        <p:blipFill>
          <a:blip r:embed="rId10"/>
          <a:stretch/>
        </p:blipFill>
        <p:spPr>
          <a:xfrm>
            <a:off x="8474040" y="1581120"/>
            <a:ext cx="189072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Content Placeholder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237680" y="4675320"/>
            <a:ext cx="1208160" cy="143172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39560" y="587520"/>
            <a:ext cx="1131264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1f4e79"/>
                </a:solidFill>
                <a:latin typeface="Arial"/>
                <a:ea typeface="Arial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haring </a:t>
            </a:r>
            <a:r>
              <a:rPr b="0" lang="en-GB" sz="3600" spc="-1" strike="noStrike">
                <a:solidFill>
                  <a:srgbClr val="44546a"/>
                </a:solidFill>
                <a:latin typeface="Arial"/>
                <a:ea typeface="Arial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earn</a:t>
            </a:r>
            <a:r>
              <a:rPr b="0" lang="en-GB" sz="3600" spc="-1" strike="noStrike">
                <a:solidFill>
                  <a:srgbClr val="1f4e79"/>
                </a:solidFill>
                <a:latin typeface="Arial"/>
                <a:ea typeface="Arial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g from </a:t>
            </a:r>
            <a:r>
              <a:rPr b="0" lang="en-GB" sz="3600" spc="-1" strike="noStrike">
                <a:solidFill>
                  <a:srgbClr val="1f4e79"/>
                </a:solidFill>
                <a:latin typeface="Arial"/>
                <a:ea typeface="Arial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ractice to improve </a:t>
            </a:r>
            <a:r>
              <a:rPr b="0" lang="en-GB" sz="3600" spc="-1" strike="noStrike">
                <a:solidFill>
                  <a:srgbClr val="1f4e79"/>
                </a:solidFill>
                <a:latin typeface="Arial"/>
                <a:ea typeface="Arial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atient </a:t>
            </a:r>
            <a:r>
              <a:rPr b="0" lang="en-GB" sz="3600" spc="-1" strike="noStrike">
                <a:solidFill>
                  <a:srgbClr val="1f4e79"/>
                </a:solidFill>
                <a:latin typeface="Arial"/>
                <a:ea typeface="Arial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afety </a:t>
            </a:r>
            <a:r>
              <a:rPr b="0" lang="en-GB" sz="3600" spc="-1" strike="noStrike">
                <a:solidFill>
                  <a:srgbClr val="1f4e79"/>
                </a:solidFill>
                <a:latin typeface="Arial"/>
                <a:ea typeface="Arial"/>
              </a:rPr>
              <a:t>(SLIPPS)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0" name="Picture 4" descr=""/>
          <p:cNvPicPr/>
          <p:nvPr/>
        </p:nvPicPr>
        <p:blipFill>
          <a:blip r:embed="rId2"/>
          <a:stretch/>
        </p:blipFill>
        <p:spPr>
          <a:xfrm>
            <a:off x="782640" y="5781600"/>
            <a:ext cx="2782800" cy="797040"/>
          </a:xfrm>
          <a:prstGeom prst="rect">
            <a:avLst/>
          </a:prstGeom>
          <a:ln w="0">
            <a:noFill/>
          </a:ln>
        </p:spPr>
      </p:pic>
      <p:sp>
        <p:nvSpPr>
          <p:cNvPr id="891" name="Shape 139"/>
          <p:cNvSpPr/>
          <p:nvPr/>
        </p:nvSpPr>
        <p:spPr>
          <a:xfrm>
            <a:off x="782640" y="2835360"/>
            <a:ext cx="10841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 year project from September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compassing: Educational research, innovation and collaboration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 countries, 7 HEIs and multiple Health/social care organis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1"/>
          <p:cNvSpPr/>
          <p:nvPr/>
        </p:nvSpPr>
        <p:spPr>
          <a:xfrm>
            <a:off x="9328320" y="6392880"/>
            <a:ext cx="27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03864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203864"/>
                </a:solidFill>
                <a:uFillTx/>
                <a:latin typeface="Calibri"/>
              </a:rPr>
              <a:t>https://www.slipps.e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e79"/>
                </a:solidFill>
                <a:latin typeface="Arial"/>
                <a:ea typeface="Arial"/>
              </a:rPr>
              <a:t>SLIPPS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verall purpose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457200" y="1437840"/>
            <a:ext cx="111888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draw on the untapped potential of th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al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‘important learning events’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d by students while in practice plac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e75b6"/>
                </a:solidFill>
                <a:latin typeface="Calibri"/>
              </a:rPr>
              <a:t>To develo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ducational tools and resources, and make them freely availa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eater understandings of how witnessing or involvement in incidents influences students (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and potentially future practice and cultur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eater understanding of patient safety learning events diversity across professions, nations and health care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gh quality research into learning events, safety culture and professional wo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5" name="Picture 4" descr=""/>
          <p:cNvPicPr/>
          <p:nvPr/>
        </p:nvPicPr>
        <p:blipFill>
          <a:blip r:embed="rId1"/>
          <a:stretch/>
        </p:blipFill>
        <p:spPr>
          <a:xfrm>
            <a:off x="11279160" y="5738760"/>
            <a:ext cx="7318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Content Placeholder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483760" y="2690640"/>
            <a:ext cx="3338280" cy="395784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76080" y="183960"/>
            <a:ext cx="11312280" cy="13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LIPPS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Important learning events 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hape 139"/>
          <p:cNvSpPr/>
          <p:nvPr/>
        </p:nvSpPr>
        <p:spPr>
          <a:xfrm>
            <a:off x="676440" y="1724040"/>
            <a:ext cx="1084104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ortant patient safety leaning events can be described as significant events or experience in a learners’ lif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thing memorable for them, it does not need to be a major ev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thing they feel strongly influenced their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positive, satisfactory ev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negative, unsatisfactory ev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Content Placeholder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807480" y="1930320"/>
            <a:ext cx="2014560" cy="238752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39560" y="183960"/>
            <a:ext cx="11312640" cy="13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Key elements &amp; outputs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2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hape 139"/>
          <p:cNvSpPr/>
          <p:nvPr/>
        </p:nvSpPr>
        <p:spPr>
          <a:xfrm>
            <a:off x="676440" y="1503360"/>
            <a:ext cx="1084104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LIPPS Learning Event Recording Tool (SLE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ual purpose: Both data collection method and educational device, for students to both record events and reflect upon th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ulti level Database of event records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cal, Transnational, Publi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reation of educational resources to be freely availa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imulation Scenar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Virtual semina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Website and open access Learning Centre (SVL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797040" y="-46080"/>
            <a:ext cx="103471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LIPPS project work pla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797040" y="1012680"/>
            <a:ext cx="1931760" cy="1586160"/>
          </a:xfrm>
          <a:prstGeom prst="rect">
            <a:avLst/>
          </a:prstGeom>
          <a:solidFill>
            <a:srgbClr val="9dc3e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Primary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797040" y="2755800"/>
            <a:ext cx="1931760" cy="1516320"/>
          </a:xfrm>
          <a:prstGeom prst="rect">
            <a:avLst/>
          </a:prstGeom>
          <a:solidFill>
            <a:srgbClr val="2e75b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Activating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797040" y="4519440"/>
            <a:ext cx="1931760" cy="1905120"/>
          </a:xfrm>
          <a:prstGeom prst="rect">
            <a:avLst/>
          </a:prstGeom>
          <a:solidFill>
            <a:srgbClr val="1f4e7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Analysis and resource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ectangle 6"/>
          <p:cNvSpPr/>
          <p:nvPr/>
        </p:nvSpPr>
        <p:spPr>
          <a:xfrm>
            <a:off x="3014640" y="1023840"/>
            <a:ext cx="2743200" cy="1575000"/>
          </a:xfrm>
          <a:prstGeom prst="rect">
            <a:avLst/>
          </a:prstGeom>
          <a:solidFill>
            <a:srgbClr val="9dc3e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Web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LER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9" name="Rectangle 8" descr=""/>
          <p:cNvPicPr/>
          <p:nvPr/>
        </p:nvPicPr>
        <p:blipFill>
          <a:blip r:embed="rId1"/>
          <a:stretch/>
        </p:blipFill>
        <p:spPr>
          <a:xfrm>
            <a:off x="6126120" y="1017720"/>
            <a:ext cx="847800" cy="5413320"/>
          </a:xfrm>
          <a:prstGeom prst="rect">
            <a:avLst/>
          </a:prstGeom>
          <a:ln w="0">
            <a:noFill/>
          </a:ln>
        </p:spPr>
      </p:pic>
      <p:sp>
        <p:nvSpPr>
          <p:cNvPr id="910" name="Rectangle 9"/>
          <p:cNvSpPr/>
          <p:nvPr/>
        </p:nvSpPr>
        <p:spPr>
          <a:xfrm>
            <a:off x="3029040" y="2719440"/>
            <a:ext cx="2728800" cy="1469880"/>
          </a:xfrm>
          <a:prstGeom prst="rect">
            <a:avLst/>
          </a:prstGeom>
          <a:solidFill>
            <a:srgbClr val="2e75b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Collecting SL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Rectangle 10"/>
          <p:cNvSpPr/>
          <p:nvPr/>
        </p:nvSpPr>
        <p:spPr>
          <a:xfrm>
            <a:off x="3013200" y="4508640"/>
            <a:ext cx="2744640" cy="1915920"/>
          </a:xfrm>
          <a:prstGeom prst="rect">
            <a:avLst/>
          </a:prstGeom>
          <a:solidFill>
            <a:srgbClr val="1f4e7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Analysis of SL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Development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Rectangle 11"/>
          <p:cNvSpPr/>
          <p:nvPr/>
        </p:nvSpPr>
        <p:spPr>
          <a:xfrm>
            <a:off x="7470720" y="4519440"/>
            <a:ext cx="3882960" cy="1905120"/>
          </a:xfrm>
          <a:prstGeom prst="rect">
            <a:avLst/>
          </a:prstGeom>
          <a:solidFill>
            <a:srgbClr val="1f4e79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Simulation Scena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Virtual sem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3" name="Straight Arrow Connector 16"/>
          <p:cNvCxnSpPr/>
          <p:nvPr/>
        </p:nvCxnSpPr>
        <p:spPr>
          <a:xfrm flipH="1">
            <a:off x="1126440" y="4206600"/>
            <a:ext cx="1080" cy="353160"/>
          </a:xfrm>
          <a:prstGeom prst="straightConnector1">
            <a:avLst/>
          </a:prstGeom>
          <a:ln w="50760">
            <a:solidFill>
              <a:srgbClr val="2e75b6"/>
            </a:solidFill>
            <a:miter/>
            <a:tailEnd len="med" type="arrow" w="med"/>
          </a:ln>
        </p:spPr>
      </p:cxnSp>
      <p:cxnSp>
        <p:nvCxnSpPr>
          <p:cNvPr id="914" name="Straight Arrow Connector 17"/>
          <p:cNvCxnSpPr/>
          <p:nvPr/>
        </p:nvCxnSpPr>
        <p:spPr>
          <a:xfrm>
            <a:off x="1025280" y="2598480"/>
            <a:ext cx="1080" cy="315000"/>
          </a:xfrm>
          <a:prstGeom prst="straightConnector1">
            <a:avLst/>
          </a:prstGeom>
          <a:ln w="5076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915" name="Straight Arrow Connector 18"/>
          <p:cNvCxnSpPr>
            <a:endCxn id="910" idx="1"/>
          </p:cNvCxnSpPr>
          <p:nvPr/>
        </p:nvCxnSpPr>
        <p:spPr>
          <a:xfrm>
            <a:off x="2728800" y="3403440"/>
            <a:ext cx="300600" cy="51840"/>
          </a:xfrm>
          <a:prstGeom prst="straightConnector1">
            <a:avLst/>
          </a:prstGeom>
          <a:ln w="50760">
            <a:solidFill>
              <a:srgbClr val="2e75b6"/>
            </a:solidFill>
            <a:miter/>
            <a:tailEnd len="med" type="arrow" w="med"/>
          </a:ln>
        </p:spPr>
      </p:cxnSp>
      <p:cxnSp>
        <p:nvCxnSpPr>
          <p:cNvPr id="916" name="Straight Arrow Connector 21"/>
          <p:cNvCxnSpPr/>
          <p:nvPr/>
        </p:nvCxnSpPr>
        <p:spPr>
          <a:xfrm>
            <a:off x="2610000" y="5313240"/>
            <a:ext cx="419760" cy="13680"/>
          </a:xfrm>
          <a:prstGeom prst="straightConnector1">
            <a:avLst/>
          </a:prstGeom>
          <a:ln w="50760">
            <a:solidFill>
              <a:srgbClr val="1f4e79"/>
            </a:solidFill>
            <a:miter/>
            <a:tailEnd len="med" type="arrow" w="med"/>
          </a:ln>
        </p:spPr>
      </p:cxnSp>
      <p:cxnSp>
        <p:nvCxnSpPr>
          <p:cNvPr id="917" name="Straight Arrow Connector 25"/>
          <p:cNvCxnSpPr>
            <a:stCxn id="911" idx="3"/>
            <a:endCxn id="912" idx="1"/>
          </p:cNvCxnSpPr>
          <p:nvPr/>
        </p:nvCxnSpPr>
        <p:spPr>
          <a:xfrm>
            <a:off x="5757840" y="5466960"/>
            <a:ext cx="1713600" cy="5400"/>
          </a:xfrm>
          <a:prstGeom prst="straightConnector1">
            <a:avLst/>
          </a:prstGeom>
          <a:ln w="50760">
            <a:solidFill>
              <a:srgbClr val="1f4e79"/>
            </a:solidFill>
            <a:miter/>
            <a:tailEnd len="med" type="arrow" w="med"/>
          </a:ln>
        </p:spPr>
      </p:cxnSp>
      <p:sp>
        <p:nvSpPr>
          <p:cNvPr id="918" name="Rectangle 26"/>
          <p:cNvSpPr/>
          <p:nvPr/>
        </p:nvSpPr>
        <p:spPr>
          <a:xfrm>
            <a:off x="7470720" y="1001880"/>
            <a:ext cx="3882960" cy="3147840"/>
          </a:xfrm>
          <a:prstGeom prst="rect">
            <a:avLst/>
          </a:prstGeom>
          <a:solidFill>
            <a:srgbClr val="a9d18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LIPPS Learning Cent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(on SLIPPS websi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Rectangle 27"/>
          <p:cNvSpPr/>
          <p:nvPr/>
        </p:nvSpPr>
        <p:spPr>
          <a:xfrm>
            <a:off x="7829640" y="1163520"/>
            <a:ext cx="3124080" cy="927360"/>
          </a:xfrm>
          <a:prstGeom prst="rect">
            <a:avLst/>
          </a:prstGeom>
          <a:solidFill>
            <a:srgbClr val="2e75b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Section of TN Database acce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28"/>
          <p:cNvSpPr/>
          <p:nvPr/>
        </p:nvSpPr>
        <p:spPr>
          <a:xfrm>
            <a:off x="7829640" y="3021120"/>
            <a:ext cx="3124080" cy="866520"/>
          </a:xfrm>
          <a:prstGeom prst="rect">
            <a:avLst/>
          </a:prstGeom>
          <a:solidFill>
            <a:srgbClr val="2e75b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Outputs/ resources freely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1" name="Straight Arrow Connector 29"/>
          <p:cNvCxnSpPr>
            <a:stCxn id="912" idx="0"/>
          </p:cNvCxnSpPr>
          <p:nvPr/>
        </p:nvCxnSpPr>
        <p:spPr>
          <a:xfrm flipH="1" flipV="1">
            <a:off x="9391320" y="4023720"/>
            <a:ext cx="20880" cy="495720"/>
          </a:xfrm>
          <a:prstGeom prst="straightConnector1">
            <a:avLst/>
          </a:prstGeom>
          <a:ln w="82440">
            <a:solidFill>
              <a:srgbClr val="2e75b6"/>
            </a:solidFill>
            <a:miter/>
            <a:tailEnd len="med" type="triangle" w="med"/>
          </a:ln>
        </p:spPr>
      </p:cxnSp>
      <p:cxnSp>
        <p:nvCxnSpPr>
          <p:cNvPr id="922" name="Straight Arrow Connector 33"/>
          <p:cNvCxnSpPr>
            <a:endCxn id="908" idx="1"/>
          </p:cNvCxnSpPr>
          <p:nvPr/>
        </p:nvCxnSpPr>
        <p:spPr>
          <a:xfrm>
            <a:off x="2610000" y="1804680"/>
            <a:ext cx="405360" cy="6840"/>
          </a:xfrm>
          <a:prstGeom prst="straightConnector1">
            <a:avLst/>
          </a:prstGeom>
          <a:ln w="50760">
            <a:solidFill>
              <a:srgbClr val="9dc3e6"/>
            </a:solidFill>
            <a:miter/>
            <a:tailEnd len="med" type="arrow" w="med"/>
          </a:ln>
        </p:spPr>
      </p:cxnSp>
      <p:cxnSp>
        <p:nvCxnSpPr>
          <p:cNvPr id="923" name="Straight Arrow Connector 40"/>
          <p:cNvCxnSpPr/>
          <p:nvPr/>
        </p:nvCxnSpPr>
        <p:spPr>
          <a:xfrm>
            <a:off x="6970680" y="1626840"/>
            <a:ext cx="859680" cy="1080"/>
          </a:xfrm>
          <a:prstGeom prst="straightConnector1">
            <a:avLst/>
          </a:prstGeom>
          <a:ln w="50760">
            <a:solidFill>
              <a:srgbClr val="1f4e79"/>
            </a:solidFill>
            <a:miter/>
            <a:tailEnd len="med" type="arrow" w="med"/>
          </a:ln>
        </p:spPr>
      </p:cxnSp>
      <p:cxnSp>
        <p:nvCxnSpPr>
          <p:cNvPr id="924" name="Straight Arrow Connector 51"/>
          <p:cNvCxnSpPr/>
          <p:nvPr/>
        </p:nvCxnSpPr>
        <p:spPr>
          <a:xfrm flipV="1">
            <a:off x="5770440" y="3454200"/>
            <a:ext cx="488160" cy="20880"/>
          </a:xfrm>
          <a:prstGeom prst="straightConnector1">
            <a:avLst/>
          </a:prstGeom>
          <a:ln w="50760">
            <a:solidFill>
              <a:srgbClr val="2e75b6"/>
            </a:solidFill>
            <a:miter/>
            <a:tailEnd len="med" type="arrow" w="med"/>
          </a:ln>
        </p:spPr>
      </p:cxnSp>
      <p:cxnSp>
        <p:nvCxnSpPr>
          <p:cNvPr id="925" name="Straight Arrow Connector 54"/>
          <p:cNvCxnSpPr/>
          <p:nvPr/>
        </p:nvCxnSpPr>
        <p:spPr>
          <a:xfrm>
            <a:off x="6970320" y="4809600"/>
            <a:ext cx="500760" cy="18360"/>
          </a:xfrm>
          <a:prstGeom prst="straightConnector1">
            <a:avLst/>
          </a:prstGeom>
          <a:ln w="50760">
            <a:solidFill>
              <a:srgbClr val="1f4e7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7" name="Group 6" descr=""/>
          <p:cNvPicPr/>
          <p:nvPr/>
        </p:nvPicPr>
        <p:blipFill>
          <a:blip r:embed="rId1"/>
          <a:stretch/>
        </p:blipFill>
        <p:spPr>
          <a:xfrm>
            <a:off x="4791240" y="2298600"/>
            <a:ext cx="2908080" cy="2333880"/>
          </a:xfrm>
          <a:prstGeom prst="rect">
            <a:avLst/>
          </a:prstGeom>
          <a:ln w="0">
            <a:noFill/>
          </a:ln>
        </p:spPr>
      </p:pic>
      <p:pic>
        <p:nvPicPr>
          <p:cNvPr id="928" name="Group 8" descr=""/>
          <p:cNvPicPr/>
          <p:nvPr/>
        </p:nvPicPr>
        <p:blipFill>
          <a:blip r:embed="rId2"/>
          <a:stretch/>
        </p:blipFill>
        <p:spPr>
          <a:xfrm>
            <a:off x="5016600" y="176040"/>
            <a:ext cx="2627280" cy="2043360"/>
          </a:xfrm>
          <a:prstGeom prst="rect">
            <a:avLst/>
          </a:prstGeom>
          <a:ln w="0">
            <a:noFill/>
          </a:ln>
        </p:spPr>
      </p:pic>
      <p:pic>
        <p:nvPicPr>
          <p:cNvPr id="929" name="Group 10" descr=""/>
          <p:cNvPicPr/>
          <p:nvPr/>
        </p:nvPicPr>
        <p:blipFill>
          <a:blip r:embed="rId3"/>
          <a:stretch/>
        </p:blipFill>
        <p:spPr>
          <a:xfrm>
            <a:off x="7223040" y="1352520"/>
            <a:ext cx="2549520" cy="2116080"/>
          </a:xfrm>
          <a:prstGeom prst="rect">
            <a:avLst/>
          </a:prstGeom>
          <a:ln w="0">
            <a:noFill/>
          </a:ln>
        </p:spPr>
      </p:pic>
      <p:pic>
        <p:nvPicPr>
          <p:cNvPr id="930" name="Group 12" descr=""/>
          <p:cNvPicPr/>
          <p:nvPr/>
        </p:nvPicPr>
        <p:blipFill>
          <a:blip r:embed="rId4"/>
          <a:stretch/>
        </p:blipFill>
        <p:spPr>
          <a:xfrm>
            <a:off x="7272360" y="3651120"/>
            <a:ext cx="2590920" cy="2159280"/>
          </a:xfrm>
          <a:prstGeom prst="rect">
            <a:avLst/>
          </a:prstGeom>
          <a:ln w="0">
            <a:noFill/>
          </a:ln>
        </p:spPr>
      </p:pic>
      <p:grpSp>
        <p:nvGrpSpPr>
          <p:cNvPr id="931" name="Group 14"/>
          <p:cNvGrpSpPr/>
          <p:nvPr/>
        </p:nvGrpSpPr>
        <p:grpSpPr>
          <a:xfrm>
            <a:off x="5149800" y="4675320"/>
            <a:ext cx="2446560" cy="2058840"/>
            <a:chOff x="5149800" y="4675320"/>
            <a:chExt cx="2446560" cy="2058840"/>
          </a:xfrm>
        </p:grpSpPr>
        <p:sp>
          <p:nvSpPr>
            <p:cNvPr id="932" name="Hexagon 22"/>
            <p:cNvSpPr/>
            <p:nvPr/>
          </p:nvSpPr>
          <p:spPr>
            <a:xfrm>
              <a:off x="5149800" y="4675320"/>
              <a:ext cx="2446560" cy="2058840"/>
            </a:xfrm>
            <a:prstGeom prst="hexagon">
              <a:avLst>
                <a:gd name="adj" fmla="val 25356"/>
                <a:gd name="vf" fmla="val 115470"/>
              </a:avLst>
            </a:prstGeom>
            <a:solidFill>
              <a:srgbClr val="4472c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Hexagon 16"/>
            <p:cNvSpPr/>
            <p:nvPr/>
          </p:nvSpPr>
          <p:spPr>
            <a:xfrm>
              <a:off x="5527440" y="4993200"/>
              <a:ext cx="1690920" cy="14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rm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UEF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Kuopio -Finlan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26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Hannele Turune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Mina Azimira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Kaisa Haataine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4" name="Group 16" descr=""/>
          <p:cNvPicPr/>
          <p:nvPr/>
        </p:nvPicPr>
        <p:blipFill>
          <a:blip r:embed="rId5"/>
          <a:stretch/>
        </p:blipFill>
        <p:spPr>
          <a:xfrm>
            <a:off x="2571840" y="3913200"/>
            <a:ext cx="2792160" cy="2232000"/>
          </a:xfrm>
          <a:prstGeom prst="rect">
            <a:avLst/>
          </a:prstGeom>
          <a:ln w="0">
            <a:noFill/>
          </a:ln>
        </p:spPr>
      </p:pic>
      <p:grpSp>
        <p:nvGrpSpPr>
          <p:cNvPr id="935" name="Group 17"/>
          <p:cNvGrpSpPr/>
          <p:nvPr/>
        </p:nvGrpSpPr>
        <p:grpSpPr>
          <a:xfrm>
            <a:off x="2587680" y="749160"/>
            <a:ext cx="2562120" cy="2105280"/>
            <a:chOff x="2587680" y="749160"/>
            <a:chExt cx="2562120" cy="2105280"/>
          </a:xfrm>
        </p:grpSpPr>
        <p:sp>
          <p:nvSpPr>
            <p:cNvPr id="936" name="Hexagon 18"/>
            <p:cNvSpPr/>
            <p:nvPr/>
          </p:nvSpPr>
          <p:spPr>
            <a:xfrm>
              <a:off x="2587680" y="749160"/>
              <a:ext cx="2562120" cy="2105280"/>
            </a:xfrm>
            <a:prstGeom prst="hexagon">
              <a:avLst>
                <a:gd name="adj" fmla="val 28075"/>
                <a:gd name="vf" fmla="val 115470"/>
              </a:avLst>
            </a:prstGeom>
            <a:solidFill>
              <a:srgbClr val="7030a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Hexagon 21"/>
            <p:cNvSpPr/>
            <p:nvPr/>
          </p:nvSpPr>
          <p:spPr>
            <a:xfrm>
              <a:off x="3063960" y="1270440"/>
              <a:ext cx="1740960" cy="14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rmAutofit fontScale="97000"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LU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Lappeenranta -Finlan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Jari Porra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Jayden Khakure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8" name="Oval 32"/>
          <p:cNvSpPr/>
          <p:nvPr/>
        </p:nvSpPr>
        <p:spPr>
          <a:xfrm>
            <a:off x="6921360" y="6021360"/>
            <a:ext cx="1866960" cy="676440"/>
          </a:xfrm>
          <a:prstGeom prst="ellipse">
            <a:avLst/>
          </a:prstGeom>
          <a:solidFill>
            <a:srgbClr val="4472c4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等线"/>
              </a:rPr>
              <a:t>Kuopio University Hosp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Oval 33"/>
          <p:cNvSpPr/>
          <p:nvPr/>
        </p:nvSpPr>
        <p:spPr>
          <a:xfrm>
            <a:off x="9434520" y="4816440"/>
            <a:ext cx="1795320" cy="70488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等线"/>
              </a:rPr>
              <a:t>San Martino Hospital, Gen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Oval 34"/>
          <p:cNvSpPr/>
          <p:nvPr/>
        </p:nvSpPr>
        <p:spPr>
          <a:xfrm>
            <a:off x="3408480" y="2911320"/>
            <a:ext cx="1912680" cy="87012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等线"/>
              </a:rPr>
              <a:t>Northumbria Healthcare Foundation T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Oval 35"/>
          <p:cNvSpPr/>
          <p:nvPr/>
        </p:nvSpPr>
        <p:spPr>
          <a:xfrm>
            <a:off x="9263160" y="1542960"/>
            <a:ext cx="1896840" cy="790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等线"/>
              </a:rPr>
              <a:t>University Hospital of San Juan, Alica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Oval 36"/>
          <p:cNvSpPr/>
          <p:nvPr/>
        </p:nvSpPr>
        <p:spPr>
          <a:xfrm>
            <a:off x="6921360" y="136440"/>
            <a:ext cx="2106720" cy="7621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等线"/>
              </a:rPr>
              <a:t>South Karelia social and health care district (Ekso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40"/>
          <p:cNvSpPr/>
          <p:nvPr/>
        </p:nvSpPr>
        <p:spPr>
          <a:xfrm>
            <a:off x="1212840" y="4438800"/>
            <a:ext cx="1928880" cy="1035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等线"/>
              </a:rPr>
              <a:t>Centre for Dev. of Institutional and Homecare Services US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TextBox 37"/>
          <p:cNvSpPr/>
          <p:nvPr/>
        </p:nvSpPr>
        <p:spPr>
          <a:xfrm rot="20835600">
            <a:off x="9100440" y="433080"/>
            <a:ext cx="26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atient safety managers &amp; coordin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Box 38"/>
          <p:cNvSpPr/>
          <p:nvPr/>
        </p:nvSpPr>
        <p:spPr>
          <a:xfrm rot="1039800">
            <a:off x="192240" y="169560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perts in information and compu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TextBox 39"/>
          <p:cNvSpPr/>
          <p:nvPr/>
        </p:nvSpPr>
        <p:spPr>
          <a:xfrm rot="20835600">
            <a:off x="10139040" y="2485800"/>
            <a:ext cx="17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41"/>
          <p:cNvSpPr/>
          <p:nvPr/>
        </p:nvSpPr>
        <p:spPr>
          <a:xfrm rot="20416200">
            <a:off x="37080" y="400176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alth &amp; social care educ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42"/>
          <p:cNvSpPr/>
          <p:nvPr/>
        </p:nvSpPr>
        <p:spPr>
          <a:xfrm rot="1267800">
            <a:off x="10230840" y="353052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ront line health &amp; social care professio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43"/>
          <p:cNvSpPr/>
          <p:nvPr/>
        </p:nvSpPr>
        <p:spPr>
          <a:xfrm rot="885600">
            <a:off x="10139040" y="588168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searc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TextBox 39"/>
          <p:cNvSpPr/>
          <p:nvPr/>
        </p:nvSpPr>
        <p:spPr>
          <a:xfrm rot="21043800">
            <a:off x="128160" y="2825640"/>
            <a:ext cx="23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hief executive officers in health c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TextBox 38"/>
          <p:cNvSpPr/>
          <p:nvPr/>
        </p:nvSpPr>
        <p:spPr>
          <a:xfrm rot="348000">
            <a:off x="228600" y="581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perts in technology and sim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TextBox 39"/>
          <p:cNvSpPr/>
          <p:nvPr/>
        </p:nvSpPr>
        <p:spPr>
          <a:xfrm rot="20835600">
            <a:off x="1711080" y="3276360"/>
            <a:ext cx="17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TextBox 39"/>
          <p:cNvSpPr/>
          <p:nvPr/>
        </p:nvSpPr>
        <p:spPr>
          <a:xfrm rot="1109400">
            <a:off x="4216680" y="634644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480" y="-54000"/>
            <a:ext cx="2681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  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2" descr=""/>
          <p:cNvPicPr/>
          <p:nvPr/>
        </p:nvPicPr>
        <p:blipFill>
          <a:blip r:embed="rId1"/>
          <a:srcRect l="0" t="2838" r="27531" b="0"/>
          <a:stretch/>
        </p:blipFill>
        <p:spPr>
          <a:xfrm>
            <a:off x="3552840" y="415800"/>
            <a:ext cx="4813200" cy="5160960"/>
          </a:xfrm>
          <a:prstGeom prst="rect">
            <a:avLst/>
          </a:prstGeom>
          <a:ln w="0">
            <a:noFill/>
          </a:ln>
        </p:spPr>
      </p:pic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480" y="-54000"/>
            <a:ext cx="2681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  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Place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7" name="Picture 6" descr=""/>
          <p:cNvPicPr/>
          <p:nvPr/>
        </p:nvPicPr>
        <p:blipFill>
          <a:blip r:embed="rId2"/>
          <a:stretch/>
        </p:blipFill>
        <p:spPr>
          <a:xfrm>
            <a:off x="757080" y="1344600"/>
            <a:ext cx="1713240" cy="961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8" descr=""/>
          <p:cNvPicPr/>
          <p:nvPr/>
        </p:nvPicPr>
        <p:blipFill>
          <a:blip r:embed="rId3"/>
          <a:stretch/>
        </p:blipFill>
        <p:spPr>
          <a:xfrm>
            <a:off x="8664480" y="2610000"/>
            <a:ext cx="1619280" cy="1028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9" descr=""/>
          <p:cNvPicPr/>
          <p:nvPr/>
        </p:nvPicPr>
        <p:blipFill>
          <a:blip r:embed="rId4"/>
          <a:stretch/>
        </p:blipFill>
        <p:spPr>
          <a:xfrm>
            <a:off x="9655200" y="4782960"/>
            <a:ext cx="1900080" cy="12081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0" descr=""/>
          <p:cNvPicPr/>
          <p:nvPr/>
        </p:nvPicPr>
        <p:blipFill>
          <a:blip r:embed="rId5"/>
          <a:stretch/>
        </p:blipFill>
        <p:spPr>
          <a:xfrm>
            <a:off x="757080" y="4881600"/>
            <a:ext cx="1887840" cy="1109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1" descr=""/>
          <p:cNvPicPr/>
          <p:nvPr/>
        </p:nvPicPr>
        <p:blipFill>
          <a:blip r:embed="rId6"/>
          <a:stretch/>
        </p:blipFill>
        <p:spPr>
          <a:xfrm>
            <a:off x="7802640" y="5656320"/>
            <a:ext cx="1671480" cy="1057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2" descr=""/>
          <p:cNvPicPr/>
          <p:nvPr/>
        </p:nvPicPr>
        <p:blipFill>
          <a:blip r:embed="rId7"/>
          <a:stretch/>
        </p:blipFill>
        <p:spPr>
          <a:xfrm>
            <a:off x="10283760" y="1581120"/>
            <a:ext cx="1619280" cy="10288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5" descr=""/>
          <p:cNvPicPr/>
          <p:nvPr/>
        </p:nvPicPr>
        <p:blipFill>
          <a:blip r:embed="rId8"/>
          <a:stretch/>
        </p:blipFill>
        <p:spPr>
          <a:xfrm>
            <a:off x="10434600" y="3078000"/>
            <a:ext cx="1619280" cy="10288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6" descr=""/>
          <p:cNvPicPr/>
          <p:nvPr/>
        </p:nvPicPr>
        <p:blipFill>
          <a:blip r:embed="rId9"/>
          <a:stretch/>
        </p:blipFill>
        <p:spPr>
          <a:xfrm>
            <a:off x="4340160" y="5656320"/>
            <a:ext cx="1619280" cy="1028520"/>
          </a:xfrm>
          <a:prstGeom prst="rect">
            <a:avLst/>
          </a:prstGeom>
          <a:ln w="0">
            <a:noFill/>
          </a:ln>
        </p:spPr>
      </p:pic>
      <p:cxnSp>
        <p:nvCxnSpPr>
          <p:cNvPr id="965" name="Straight Arrow Connector 19"/>
          <p:cNvCxnSpPr/>
          <p:nvPr/>
        </p:nvCxnSpPr>
        <p:spPr>
          <a:xfrm flipH="1" flipV="1">
            <a:off x="6485760" y="2025000"/>
            <a:ext cx="2840760" cy="33613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66" name="Straight Arrow Connector 21"/>
          <p:cNvCxnSpPr/>
          <p:nvPr/>
        </p:nvCxnSpPr>
        <p:spPr>
          <a:xfrm flipH="1" flipV="1">
            <a:off x="7329240" y="1257120"/>
            <a:ext cx="2015280" cy="83880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967" name="Straight Arrow Connector 2"/>
          <p:cNvCxnSpPr/>
          <p:nvPr/>
        </p:nvCxnSpPr>
        <p:spPr>
          <a:xfrm flipV="1">
            <a:off x="2768400" y="4628520"/>
            <a:ext cx="1889640" cy="757800"/>
          </a:xfrm>
          <a:prstGeom prst="straightConnector1">
            <a:avLst/>
          </a:prstGeom>
          <a:ln w="31680">
            <a:solidFill>
              <a:srgbClr val="c55a11"/>
            </a:solidFill>
            <a:miter/>
            <a:tailEnd len="med" type="triangle" w="med"/>
          </a:ln>
        </p:spPr>
      </p:cxnSp>
      <p:cxnSp>
        <p:nvCxnSpPr>
          <p:cNvPr id="968" name="Straight Arrow Connector 4"/>
          <p:cNvCxnSpPr/>
          <p:nvPr/>
        </p:nvCxnSpPr>
        <p:spPr>
          <a:xfrm flipV="1">
            <a:off x="5328720" y="4214520"/>
            <a:ext cx="801000" cy="1413360"/>
          </a:xfrm>
          <a:prstGeom prst="straightConnector1">
            <a:avLst/>
          </a:prstGeom>
          <a:ln w="31680">
            <a:solidFill>
              <a:srgbClr val="548235"/>
            </a:solidFill>
            <a:miter/>
            <a:tailEnd len="med" type="triangle" w="med"/>
          </a:ln>
        </p:spPr>
      </p:cxnSp>
      <p:cxnSp>
        <p:nvCxnSpPr>
          <p:cNvPr id="969" name="Straight Arrow Connector 10"/>
          <p:cNvCxnSpPr/>
          <p:nvPr/>
        </p:nvCxnSpPr>
        <p:spPr>
          <a:xfrm flipV="1">
            <a:off x="2768400" y="2305800"/>
            <a:ext cx="2189880" cy="6915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970" name="Picture 4" descr=""/>
          <p:cNvPicPr/>
          <p:nvPr/>
        </p:nvPicPr>
        <p:blipFill>
          <a:blip r:embed="rId10"/>
          <a:stretch/>
        </p:blipFill>
        <p:spPr>
          <a:xfrm>
            <a:off x="255600" y="2570040"/>
            <a:ext cx="2513160" cy="811440"/>
          </a:xfrm>
          <a:prstGeom prst="rect">
            <a:avLst/>
          </a:prstGeom>
          <a:ln w="0">
            <a:noFill/>
          </a:ln>
        </p:spPr>
      </p:pic>
      <p:pic>
        <p:nvPicPr>
          <p:cNvPr id="971" name="Kuva 2" descr="image003"/>
          <p:cNvPicPr/>
          <p:nvPr/>
        </p:nvPicPr>
        <p:blipFill>
          <a:blip r:embed="rId11"/>
          <a:stretch/>
        </p:blipFill>
        <p:spPr>
          <a:xfrm>
            <a:off x="11069640" y="168120"/>
            <a:ext cx="833400" cy="12765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23" descr="The Newcastle Upon Tyne NHS Foundation Trust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96880" y="3587760"/>
            <a:ext cx="2346480" cy="598320"/>
          </a:xfrm>
          <a:prstGeom prst="rect">
            <a:avLst/>
          </a:prstGeom>
          <a:ln w="0">
            <a:noFill/>
          </a:ln>
        </p:spPr>
      </p:pic>
      <p:pic>
        <p:nvPicPr>
          <p:cNvPr id="973" name="Google Shape;155;p18" descr=""/>
          <p:cNvPicPr/>
          <p:nvPr/>
        </p:nvPicPr>
        <p:blipFill>
          <a:blip r:embed="rId14"/>
          <a:stretch/>
        </p:blipFill>
        <p:spPr>
          <a:xfrm>
            <a:off x="8664480" y="522360"/>
            <a:ext cx="188748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92040" y="184320"/>
            <a:ext cx="1131264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LIPPS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Ethical considerations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5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hape 139"/>
          <p:cNvSpPr/>
          <p:nvPr/>
        </p:nvSpPr>
        <p:spPr>
          <a:xfrm>
            <a:off x="425520" y="1698480"/>
            <a:ext cx="10841040" cy="37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pproval granted from all participating Univers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missions gained from Health care organis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ach partner has gained any other appropriate approv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ata protection issues attende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consent to LER being used in SLIP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7" name="Content Placeholder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817200" y="4122720"/>
            <a:ext cx="190476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25160" y="39240"/>
            <a:ext cx="11312280" cy="13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LIPPS: Students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Shape 139"/>
          <p:cNvSpPr/>
          <p:nvPr/>
        </p:nvSpPr>
        <p:spPr>
          <a:xfrm>
            <a:off x="425520" y="1071720"/>
            <a:ext cx="1084104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833400" y="1071720"/>
          <a:ext cx="11090160" cy="5684760"/>
        </p:xfrm>
        <a:graphic>
          <a:graphicData uri="http://schemas.openxmlformats.org/drawingml/2006/table">
            <a:tbl>
              <a:tblPr/>
              <a:tblGrid>
                <a:gridCol w="2090880"/>
                <a:gridCol w="3251160"/>
                <a:gridCol w="2897280"/>
                <a:gridCol w="2850840"/>
              </a:tblGrid>
              <a:tr h="13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sing:  4 typ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dult, Children's, Learning Disabilities, Mental 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pre-registration, undergraduat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wif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Pre-registration, undergradu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ysiotherapy (Masters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eneral Bachelor`s degre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ysi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achelor`s degre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achelor`s degree, Master`s degre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undergraduate nursing stud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trition/Masters in Health Scien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s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d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wifery/Obstetr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eneral BS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sing (BSc) learning dis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LIPPS</a:t>
            </a: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logic mode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3" name="Down Arrow 5"/>
          <p:cNvSpPr/>
          <p:nvPr/>
        </p:nvSpPr>
        <p:spPr>
          <a:xfrm rot="16200000">
            <a:off x="6064200" y="-119160"/>
            <a:ext cx="731880" cy="7500960"/>
          </a:xfrm>
          <a:prstGeom prst="downArrow">
            <a:avLst>
              <a:gd name="adj1" fmla="val 50000"/>
              <a:gd name="adj2" fmla="val 2059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ed Rectangle 6"/>
          <p:cNvSpPr/>
          <p:nvPr/>
        </p:nvSpPr>
        <p:spPr>
          <a:xfrm>
            <a:off x="8470800" y="2230560"/>
            <a:ext cx="1446480" cy="3117600"/>
          </a:xfrm>
          <a:custGeom>
            <a:avLst/>
            <a:gdLst>
              <a:gd name="textAreaLeft" fmla="*/ 70560 w 1446480"/>
              <a:gd name="textAreaRight" fmla="*/ 1375920 w 1446480"/>
              <a:gd name="textAreaTop" fmla="*/ 70560 h 3117600"/>
              <a:gd name="textAreaBottom" fmla="*/ 3047040 h 3117600"/>
            </a:gdLst>
            <a:ahLst/>
            <a:rect l="textAreaLeft" t="textAreaTop" r="textAreaRight" b="textAreaBottom"/>
            <a:pathLst>
              <a:path w="21600" h="46548">
                <a:moveTo>
                  <a:pt x="3600" y="0"/>
                </a:moveTo>
                <a:arcTo wR="3600" hR="3600" stAng="16200000" swAng="-5400000"/>
                <a:lnTo>
                  <a:pt x="0" y="42948"/>
                </a:lnTo>
                <a:arcTo wR="3600" hR="3600" stAng="10800000" swAng="-5400000"/>
                <a:lnTo>
                  <a:pt x="18000" y="465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ment of open access resourc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ed Rectangle 7"/>
          <p:cNvSpPr/>
          <p:nvPr/>
        </p:nvSpPr>
        <p:spPr>
          <a:xfrm>
            <a:off x="1730520" y="2212920"/>
            <a:ext cx="1560240" cy="3117960"/>
          </a:xfrm>
          <a:custGeom>
            <a:avLst/>
            <a:gdLst>
              <a:gd name="textAreaLeft" fmla="*/ 75960 w 1560240"/>
              <a:gd name="textAreaRight" fmla="*/ 1484280 w 1560240"/>
              <a:gd name="textAreaTop" fmla="*/ 75960 h 3117960"/>
              <a:gd name="textAreaBottom" fmla="*/ 3042000 h 3117960"/>
            </a:gdLst>
            <a:ahLst/>
            <a:rect l="textAreaLeft" t="textAreaTop" r="textAreaRight" b="textAreaBottom"/>
            <a:pathLst>
              <a:path w="21600" h="43160">
                <a:moveTo>
                  <a:pt x="3600" y="0"/>
                </a:moveTo>
                <a:arcTo wR="3600" hR="3600" stAng="16200000" swAng="-5400000"/>
                <a:lnTo>
                  <a:pt x="0" y="39560"/>
                </a:lnTo>
                <a:arcTo wR="3600" hR="3600" stAng="10800000" swAng="-5400000"/>
                <a:lnTo>
                  <a:pt x="18000" y="43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tudent completes Learning event record using SLIPPS t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(SLER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Rounded Rectangle 8"/>
          <p:cNvSpPr/>
          <p:nvPr/>
        </p:nvSpPr>
        <p:spPr>
          <a:xfrm>
            <a:off x="3398760" y="2143080"/>
            <a:ext cx="2301840" cy="3187800"/>
          </a:xfrm>
          <a:custGeom>
            <a:avLst/>
            <a:gdLst>
              <a:gd name="textAreaLeft" fmla="*/ 112320 w 2301840"/>
              <a:gd name="textAreaRight" fmla="*/ 2189520 w 2301840"/>
              <a:gd name="textAreaTop" fmla="*/ 112320 h 3187800"/>
              <a:gd name="textAreaBottom" fmla="*/ 3075480 h 3187800"/>
            </a:gdLst>
            <a:ahLst/>
            <a:rect l="textAreaLeft" t="textAreaTop" r="textAreaRight" b="textAreaBottom"/>
            <a:pathLst>
              <a:path w="21600" h="29912">
                <a:moveTo>
                  <a:pt x="3600" y="0"/>
                </a:moveTo>
                <a:arcTo wR="3600" hR="3600" stAng="16200000" swAng="-5400000"/>
                <a:lnTo>
                  <a:pt x="0" y="26312"/>
                </a:lnTo>
                <a:arcTo wR="3600" hR="3600" stAng="10800000" swAng="-5400000"/>
                <a:lnTo>
                  <a:pt x="18000" y="299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ocal platfor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creening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ulti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ulti level Databa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Single s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Transnational: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(SLIPPS team shar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Public: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(open access SLERs from all sit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Rounded Rectangle 9"/>
          <p:cNvSpPr/>
          <p:nvPr/>
        </p:nvSpPr>
        <p:spPr>
          <a:xfrm>
            <a:off x="7202520" y="2195640"/>
            <a:ext cx="1136520" cy="3152520"/>
          </a:xfrm>
          <a:custGeom>
            <a:avLst/>
            <a:gdLst>
              <a:gd name="textAreaLeft" fmla="*/ 55440 w 1136520"/>
              <a:gd name="textAreaRight" fmla="*/ 1081080 w 1136520"/>
              <a:gd name="textAreaTop" fmla="*/ 55440 h 3152520"/>
              <a:gd name="textAreaBottom" fmla="*/ 3097080 h 3152520"/>
            </a:gdLst>
            <a:ahLst/>
            <a:rect l="textAreaLeft" t="textAreaTop" r="textAreaRight" b="textAreaBottom"/>
            <a:pathLst>
              <a:path w="21600" h="59903">
                <a:moveTo>
                  <a:pt x="3600" y="0"/>
                </a:moveTo>
                <a:arcTo wR="3600" hR="3600" stAng="16200000" swAng="-5400000"/>
                <a:lnTo>
                  <a:pt x="0" y="56303"/>
                </a:lnTo>
                <a:arcTo wR="3600" hR="3600" stAng="10800000" swAng="-5400000"/>
                <a:lnTo>
                  <a:pt x="18000" y="599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eedback to HC/S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ounded Rectangle 10"/>
          <p:cNvSpPr/>
          <p:nvPr/>
        </p:nvSpPr>
        <p:spPr>
          <a:xfrm>
            <a:off x="5853240" y="2178000"/>
            <a:ext cx="1217520" cy="3152880"/>
          </a:xfrm>
          <a:custGeom>
            <a:avLst/>
            <a:gdLst>
              <a:gd name="textAreaLeft" fmla="*/ 59400 w 1217520"/>
              <a:gd name="textAreaRight" fmla="*/ 1158120 w 1217520"/>
              <a:gd name="textAreaTop" fmla="*/ 59400 h 3152880"/>
              <a:gd name="textAreaBottom" fmla="*/ 3093480 h 3152880"/>
            </a:gdLst>
            <a:ahLst/>
            <a:rect l="textAreaLeft" t="textAreaTop" r="textAreaRight" b="textAreaBottom"/>
            <a:pathLst>
              <a:path w="21600" h="55925">
                <a:moveTo>
                  <a:pt x="3600" y="0"/>
                </a:moveTo>
                <a:arcTo wR="3600" hR="3600" stAng="16200000" swAng="-5400000"/>
                <a:lnTo>
                  <a:pt x="0" y="52325"/>
                </a:lnTo>
                <a:arcTo wR="3600" hR="3600" stAng="10800000" swAng="-5400000"/>
                <a:lnTo>
                  <a:pt x="18000" y="55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alys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ounded Rectangle 11"/>
          <p:cNvSpPr/>
          <p:nvPr/>
        </p:nvSpPr>
        <p:spPr>
          <a:xfrm>
            <a:off x="10180800" y="1868400"/>
            <a:ext cx="1670040" cy="3525840"/>
          </a:xfrm>
          <a:custGeom>
            <a:avLst/>
            <a:gdLst>
              <a:gd name="textAreaLeft" fmla="*/ 81360 w 1670040"/>
              <a:gd name="textAreaRight" fmla="*/ 1588680 w 1670040"/>
              <a:gd name="textAreaTop" fmla="*/ 81360 h 3525840"/>
              <a:gd name="textAreaBottom" fmla="*/ 3444480 h 3525840"/>
            </a:gdLst>
            <a:ahLst/>
            <a:rect l="textAreaLeft" t="textAreaTop" r="textAreaRight" b="textAreaBottom"/>
            <a:pathLst>
              <a:path w="21600" h="45597">
                <a:moveTo>
                  <a:pt x="3600" y="0"/>
                </a:moveTo>
                <a:arcTo wR="3600" hR="3600" stAng="16200000" swAng="-5400000"/>
                <a:lnTo>
                  <a:pt x="0" y="41997"/>
                </a:lnTo>
                <a:arcTo wR="3600" hR="3600" stAng="10800000" swAng="-5400000"/>
                <a:lnTo>
                  <a:pt x="18000" y="455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482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LIPPS Virtual Learning 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ed Rectangle 12"/>
          <p:cNvSpPr/>
          <p:nvPr/>
        </p:nvSpPr>
        <p:spPr>
          <a:xfrm>
            <a:off x="317520" y="1965240"/>
            <a:ext cx="1292040" cy="3951360"/>
          </a:xfrm>
          <a:custGeom>
            <a:avLst/>
            <a:gdLst>
              <a:gd name="textAreaLeft" fmla="*/ 63000 w 1292040"/>
              <a:gd name="textAreaRight" fmla="*/ 1229040 w 1292040"/>
              <a:gd name="textAreaTop" fmla="*/ 63000 h 3951360"/>
              <a:gd name="textAreaBottom" fmla="*/ 3888360 h 3951360"/>
            </a:gdLst>
            <a:ahLst/>
            <a:rect l="textAreaLeft" t="textAreaTop" r="textAreaRight" b="textAreaBottom"/>
            <a:pathLst>
              <a:path w="21600" h="66045">
                <a:moveTo>
                  <a:pt x="3600" y="0"/>
                </a:moveTo>
                <a:arcTo wR="3600" hR="3600" stAng="16200000" swAng="-5400000"/>
                <a:lnTo>
                  <a:pt x="0" y="62445"/>
                </a:lnTo>
                <a:arcTo wR="3600" hR="3600" stAng="10800000" swAng="-5400000"/>
                <a:lnTo>
                  <a:pt x="18000" y="660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699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tudent completes placement experience in H/S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52440" y="3130560"/>
            <a:ext cx="11477520" cy="19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e79"/>
                </a:solidFill>
                <a:latin typeface="Arial"/>
                <a:ea typeface="Arial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haring </a:t>
            </a:r>
            <a:r>
              <a:rPr b="0" lang="en-GB" sz="4400" spc="-1" strike="noStrike">
                <a:solidFill>
                  <a:srgbClr val="2e75b6"/>
                </a:solidFill>
                <a:latin typeface="Arial"/>
                <a:ea typeface="Arial"/>
              </a:rPr>
              <a:t>L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earn</a:t>
            </a:r>
            <a:r>
              <a:rPr b="0" lang="en-GB" sz="4400" spc="-1" strike="noStrike">
                <a:solidFill>
                  <a:srgbClr val="2e75b6"/>
                </a:solidFill>
                <a:latin typeface="Arial"/>
                <a:ea typeface="Arial"/>
              </a:rPr>
              <a:t>I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ng from </a:t>
            </a:r>
            <a:r>
              <a:rPr b="0" lang="en-GB" sz="4400" spc="-1" strike="noStrike">
                <a:solidFill>
                  <a:srgbClr val="2e75b6"/>
                </a:solidFill>
                <a:latin typeface="Arial"/>
                <a:ea typeface="Arial"/>
              </a:rPr>
              <a:t>P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ractice to improve </a:t>
            </a:r>
            <a:r>
              <a:rPr b="0" lang="en-GB" sz="4400" spc="-1" strike="noStrike">
                <a:solidFill>
                  <a:srgbClr val="2e75b6"/>
                </a:solidFill>
                <a:latin typeface="Arial"/>
                <a:ea typeface="Arial"/>
              </a:rPr>
              <a:t>P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atient </a:t>
            </a:r>
            <a:r>
              <a:rPr b="0" lang="en-GB" sz="4400" spc="-1" strike="noStrike">
                <a:solidFill>
                  <a:srgbClr val="2e75b6"/>
                </a:solidFill>
                <a:latin typeface="Arial"/>
                <a:ea typeface="Arial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afety </a:t>
            </a:r>
            <a:r>
              <a:rPr b="0" lang="en-GB" sz="4400" spc="-1" strike="noStrike">
                <a:solidFill>
                  <a:srgbClr val="2e75b6"/>
                </a:solidFill>
                <a:latin typeface="Arial"/>
                <a:ea typeface="Arial"/>
              </a:rPr>
              <a:t>(</a:t>
            </a:r>
            <a:r>
              <a:rPr b="0" i="1" lang="en-GB" sz="4400" spc="-1" strike="noStrike">
                <a:solidFill>
                  <a:srgbClr val="2e75b6"/>
                </a:solidFill>
                <a:latin typeface="Arial"/>
                <a:ea typeface="Arial"/>
              </a:rPr>
              <a:t>SLIPPS</a:t>
            </a:r>
            <a:r>
              <a:rPr b="0" lang="en-GB" sz="4400" spc="-1" strike="noStrike">
                <a:solidFill>
                  <a:srgbClr val="2e75b6"/>
                </a:solidFill>
                <a:latin typeface="Arial"/>
                <a:ea typeface="Arial"/>
              </a:rPr>
              <a:t>)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4000" spc="-1" strike="noStrike">
                <a:solidFill>
                  <a:srgbClr val="2e75b6"/>
                </a:solidFill>
                <a:latin typeface="Arial"/>
                <a:ea typeface="Arial"/>
              </a:rPr>
              <a:t>Project overview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1557360" y="5567400"/>
            <a:ext cx="914400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ssoc. Prof Alison Ste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SLIPPS Le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0" name="Picture 1" descr=""/>
          <p:cNvPicPr/>
          <p:nvPr/>
        </p:nvPicPr>
        <p:blipFill>
          <a:blip r:embed="rId1"/>
          <a:stretch/>
        </p:blipFill>
        <p:spPr>
          <a:xfrm>
            <a:off x="4867200" y="1647720"/>
            <a:ext cx="2259000" cy="26766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2" descr=""/>
          <p:cNvPicPr/>
          <p:nvPr/>
        </p:nvPicPr>
        <p:blipFill>
          <a:blip r:embed="rId2"/>
          <a:stretch/>
        </p:blipFill>
        <p:spPr>
          <a:xfrm>
            <a:off x="450720" y="5603760"/>
            <a:ext cx="3233880" cy="93024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4" descr=""/>
          <p:cNvPicPr/>
          <p:nvPr/>
        </p:nvPicPr>
        <p:blipFill>
          <a:blip r:embed="rId3"/>
          <a:stretch/>
        </p:blipFill>
        <p:spPr>
          <a:xfrm>
            <a:off x="9021600" y="5603760"/>
            <a:ext cx="263700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6" descr=""/>
          <p:cNvPicPr/>
          <p:nvPr/>
        </p:nvPicPr>
        <p:blipFill>
          <a:blip r:embed="rId1"/>
          <a:srcRect l="5398" t="15034" r="2936" b="23553"/>
          <a:stretch/>
        </p:blipFill>
        <p:spPr>
          <a:xfrm>
            <a:off x="324000" y="861840"/>
            <a:ext cx="6244920" cy="2352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24000" y="166320"/>
            <a:ext cx="113760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LIPPS Websit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3" name="Rectangle 4"/>
          <p:cNvSpPr/>
          <p:nvPr/>
        </p:nvSpPr>
        <p:spPr>
          <a:xfrm>
            <a:off x="7967520" y="345276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Picture 5" descr=""/>
          <p:cNvPicPr/>
          <p:nvPr/>
        </p:nvPicPr>
        <p:blipFill>
          <a:blip r:embed="rId2"/>
          <a:srcRect l="2497" t="0" r="0" b="0"/>
          <a:stretch/>
        </p:blipFill>
        <p:spPr>
          <a:xfrm>
            <a:off x="5600880" y="1996920"/>
            <a:ext cx="6379920" cy="430056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95" name="Picture 7" descr=""/>
          <p:cNvPicPr/>
          <p:nvPr/>
        </p:nvPicPr>
        <p:blipFill>
          <a:blip r:embed="rId3"/>
          <a:srcRect l="2330" t="13450" r="7119" b="7052"/>
          <a:stretch/>
        </p:blipFill>
        <p:spPr>
          <a:xfrm>
            <a:off x="324000" y="3452760"/>
            <a:ext cx="6530760" cy="3224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96" name="TextBox 1"/>
          <p:cNvSpPr/>
          <p:nvPr/>
        </p:nvSpPr>
        <p:spPr>
          <a:xfrm>
            <a:off x="6980400" y="100476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https://www.slipps.e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71520" y="599760"/>
            <a:ext cx="113760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LIPPS Learning centre</a:t>
            </a:r>
            <a:br>
              <a:rPr sz="3200"/>
            </a:br>
            <a:r>
              <a:rPr b="0" lang="en-GB" sz="3200" spc="-1" strike="noStrike">
                <a:solidFill>
                  <a:srgbClr val="2e75b6"/>
                </a:solidFill>
                <a:latin typeface="Arial"/>
                <a:ea typeface="Arial"/>
              </a:rPr>
              <a:t> https://www.slipps.eu/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98" name="Picture 2" descr=""/>
          <p:cNvPicPr/>
          <p:nvPr/>
        </p:nvPicPr>
        <p:blipFill>
          <a:blip r:embed="rId1"/>
          <a:srcRect l="6361" t="10338" r="57123" b="6432"/>
          <a:stretch/>
        </p:blipFill>
        <p:spPr>
          <a:xfrm>
            <a:off x="1150920" y="1409760"/>
            <a:ext cx="7999560" cy="51292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999" name="TextBox 3"/>
          <p:cNvSpPr/>
          <p:nvPr/>
        </p:nvSpPr>
        <p:spPr>
          <a:xfrm>
            <a:off x="9763200" y="1654200"/>
            <a:ext cx="21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eely avail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0" name="Straight Arrow Connector 6"/>
          <p:cNvCxnSpPr>
            <a:stCxn id="999" idx="1"/>
          </p:cNvCxnSpPr>
          <p:nvPr/>
        </p:nvCxnSpPr>
        <p:spPr>
          <a:xfrm flipH="1">
            <a:off x="8000280" y="2438280"/>
            <a:ext cx="1762920" cy="185040"/>
          </a:xfrm>
          <a:prstGeom prst="straightConnector1">
            <a:avLst/>
          </a:prstGeom>
          <a:ln w="57240">
            <a:solidFill>
              <a:srgbClr val="5b9bd5"/>
            </a:solidFill>
            <a:miter/>
            <a:tailEnd len="med" type="triangle" w="med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36240" y="365040"/>
            <a:ext cx="1101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In summary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2" name="Content Placeholder 3" descr=""/>
          <p:cNvPicPr/>
          <p:nvPr/>
        </p:nvPicPr>
        <p:blipFill>
          <a:blip r:embed="rId1"/>
          <a:stretch/>
        </p:blipFill>
        <p:spPr>
          <a:xfrm>
            <a:off x="195120" y="1262160"/>
            <a:ext cx="8918640" cy="5052960"/>
          </a:xfrm>
          <a:prstGeom prst="rect">
            <a:avLst/>
          </a:prstGeom>
          <a:ln w="0">
            <a:noFill/>
          </a:ln>
        </p:spPr>
      </p:pic>
      <p:pic>
        <p:nvPicPr>
          <p:cNvPr id="1003" name="Diagram 2" descr=""/>
          <p:cNvPicPr/>
          <p:nvPr/>
        </p:nvPicPr>
        <p:blipFill>
          <a:blip r:embed="rId2"/>
          <a:stretch/>
        </p:blipFill>
        <p:spPr>
          <a:xfrm>
            <a:off x="8594640" y="506520"/>
            <a:ext cx="48229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88800" y="184320"/>
            <a:ext cx="1131264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a35"/>
                </a:solidFill>
                <a:latin typeface="Arial"/>
                <a:ea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5" name="Content Placeholder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483760" y="2690640"/>
            <a:ext cx="3338280" cy="395784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hape 139"/>
          <p:cNvSpPr/>
          <p:nvPr/>
        </p:nvSpPr>
        <p:spPr>
          <a:xfrm>
            <a:off x="388800" y="1459080"/>
            <a:ext cx="11276280" cy="49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e Prof Dr Alison Stev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partment of Nursing, Midwifery and Heal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aculty of Health and Life Sci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rthumbria Univer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ison.steven@northumbria.ac.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ttps://www.slipps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0320" y="0"/>
            <a:ext cx="1131228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a35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9" name="Content Placeholder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483760" y="2690640"/>
            <a:ext cx="3338280" cy="3957840"/>
          </a:xfrm>
          <a:prstGeom prst="rect">
            <a:avLst/>
          </a:prstGeom>
          <a:ln w="0">
            <a:noFill/>
          </a:ln>
        </p:spPr>
      </p:pic>
      <p:sp>
        <p:nvSpPr>
          <p:cNvPr id="1010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hape 139"/>
          <p:cNvSpPr/>
          <p:nvPr/>
        </p:nvSpPr>
        <p:spPr>
          <a:xfrm>
            <a:off x="388800" y="874800"/>
            <a:ext cx="11517480" cy="55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ensi-Vicente J, Jiménez-Ruiz I, Vizcaya-Moreno MF. Medication Errors Involving Nursing Students: A Systematic Review. Nurse Educator. 2018;43(5):E1-E5. doi:10.1097/NNE.000000000000048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agnasco A, Timmins F, de Vries JMA, Aleo G, Zanini M, Catania G, Sasso L. Understanding and addressing missed care in clinical placements - implications for nursing students and nurse educators. Nurse Education Today, 2017; 56: 1-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agnasco A, Pagnucci N, Tolotti A, et al. (2014) The role of simulation in developing communication and gestural skills in medical students. BMC Medical Education 14: 106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agnasco A, Tibaldi L, Chirone P, et al. (2010) Patient safety culture: An Italian experience. Journal of Clinical Nursing 20(7–8): 1188–119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radley F, Steven A, and Ashcroft DM (2011) Learning about patient safety: recognizing the importance of the hidden curriculum in pharmacy education. American Journal of Pharmaceutical Education 2011; 75 (7) 1-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resswell, K, Howe, A,  Steven, A, Smith, P, Ashcroft, D, Fairhurst, K, Bradley, F,  Magnusson, C, McArthur, M, Pearson P and Sheikh A (2013) Patient safety in healthcare pre-registration educational curricula: multiple case study-based investigations of eight medicine, nursing, pharmacy and physiotherapy university courses, BMJ Quality &amp; Safety, doi:10.1136/bmjqs-2013-0019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ukka M, Hupli M and Turunen H (2018) How transformational leadership appears in action with adverse events? A study for Finnish nurse manager. Journal of Nursing Management 26: 639–6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nn, K., J. Gordon, and A. MacLeod. 2009. “Reflection and Reflective Practice in Health Professions Education: A Systematic Review.” Advances in Health Sciences Education 14 (4): 595–62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rvi Langari MN, Tella S, Smith N-J, Turunen H. Self-Assessment of Patient Safety Competence: A Questionnaire Survey of Final Year British and Finnish Pre-Registration Nursing Students. International Journal of Caring Sciences. 2017;10(3):1212-122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88800" y="184320"/>
            <a:ext cx="1131264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a35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3" name="Content Placeholder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483760" y="2690640"/>
            <a:ext cx="3338280" cy="395784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hape 139"/>
          <p:cNvSpPr/>
          <p:nvPr/>
        </p:nvSpPr>
        <p:spPr>
          <a:xfrm>
            <a:off x="388800" y="1155600"/>
            <a:ext cx="11276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earson, P., Steven, A., Howe, A., Sheikh, A., Ashcroft, D., Smith, P., 2010. Learning about patient safety: organizational context and culture in the education of health care professionals. Journal of Health Services Research &amp; Policy 15, 4–1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earson P, Steven A, Howe A, Sheikh A, Ashcroft D, Smith P on behalf of the Patient Safety Education Study Group  (2010) Learning about patient safety: organisational context and culture in the education of health care professionals, Journal of Health Services Research &amp; Policy,15(Supplement 1): 4—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aarikoski, M., Kaila, P., Lambrinou, E., Pérez Cañaveras, R. M., Tichelaar, E., Tomietto, M., &amp; Warne, T.  Students’ experiences of cooperation with nurse teacher during their clinical placements: An empirical study in a Western European context. Nurse Education in Practice. 2013;13(2):78-8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ahlström M, Partanen P, Azimirad M, Selander T, Turunen H. (2019) Patient participation in patient safety—An exploration of promoting factors. Journal of Nursing Management 27(1):84–9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ven, A; Magnusson, C; Smith, P; Pearson, P H. (2014) Patient safety in nursing education: Contexts, tensions and feeling safe to learn, Nurse Education Today, 34, 277-284 http://dx.doi.org/10.1016/j.nedt.2013.04.02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ven A., Tella S., Turunen H., Vizcaya-Moreno M.F., Pérez-Cañaveras R.M., Porras J., Bagnasco A, Sasso L., Myhre K, Sara-aho A., Ringstad Ø., Pearson P. (2019) Shared Learning from National to International Contexts: A Research and Innovation Collaboration to Enhance Education for Patient Safety.” Journal of Research in Nursing 24, no. 3–4 (June 2019): 149–64. doi:10.1177/174498711882462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wart, J., 2008. To call or not to call: a judgement of risk by pre-registration house officers. Medical education 42, 938–94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8800" y="184320"/>
            <a:ext cx="1131264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a35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7" name="Content Placeholder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483760" y="2690640"/>
            <a:ext cx="3338280" cy="3957840"/>
          </a:xfrm>
          <a:prstGeom prst="rect">
            <a:avLst/>
          </a:prstGeom>
          <a:ln w="0">
            <a:noFill/>
          </a:ln>
        </p:spPr>
      </p:pic>
      <p:sp>
        <p:nvSpPr>
          <p:cNvPr id="1018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Shape 139"/>
          <p:cNvSpPr/>
          <p:nvPr/>
        </p:nvSpPr>
        <p:spPr>
          <a:xfrm>
            <a:off x="388800" y="1459080"/>
            <a:ext cx="11276280" cy="49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ella S; Smith N-J; Partanena P ; Turunen H (2016) Work placements as learning environments for patient safety: Finnish and British preregistration nursing students’ important learning events Journal of Vocational Education and Training, 2016 VOL . 68, NO . 1, 51–6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ella S, Smith N, Partanen P, Jamookeeah D, Lamidi M, Turunen H. Learning to ensure patient safety in clinical settings: comparing Finnish and British nursing students’ perceptions.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Journal of Clinical Nursing (John Wiley &amp; Sons, Inc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. 2015;24(19-20):2954-2964. doi:10.1111/jocn.129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ella S, Smith N-J, Partanen P, Turunen H. Learning Patient Safety in Academic Settings: A Comparative Study of Finnish and British Nursing Students’ Perceptions.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orldviews on Evidence-Based Nursin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. 2015;12(3):154-164. doi:10.1111/wvn.1208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urunen H, Partanen P, Kvist T, Miettinen M, Vehviläinen JK. Patient safety culture in acute care: A web-based survey of nurse managers’ and registered nurses’ views in four Finnish hospitals. International Journal of Nursing Practice 2013;19(6):609-617. doi:10.1111/ijn.1211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ingstad Ø. Understanding through experience: information, experience and understanding in clinical rehabilitation practice. Disability &amp; Rehabilitation. 2014;36(12):978-9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Vizcaya-Moreno MF, Pérez-Cañaveras RM, De Juan J, Saarikoski M. Development and psychometric testing of the clinical learning environment, supervision and nurse teacher evaluation scale (CLES+T): The Spanish version. International Journal of Nursing Studies. 2015;52(1):361-367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11120" y="343080"/>
            <a:ext cx="112600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Context: Harm and burde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Shape 139"/>
          <p:cNvSpPr/>
          <p:nvPr/>
        </p:nvSpPr>
        <p:spPr>
          <a:xfrm>
            <a:off x="411120" y="1438200"/>
            <a:ext cx="1149840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ound 1 in 10 patients in high income countries suffer harm - nearly 50% are avoidable (WH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a 1 in 300 chance of a patient being harmed during health care (WH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spital infections affect 14 of every 100 patients admitted to hospit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dministration errors -  Account for up to half of all medical errors in primary c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ient Harm - 1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leading cause of global disease burden comparable with diseases lik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5" name="Picture 4" descr=""/>
          <p:cNvPicPr/>
          <p:nvPr/>
        </p:nvPicPr>
        <p:blipFill>
          <a:blip r:embed="rId1"/>
          <a:stretch/>
        </p:blipFill>
        <p:spPr>
          <a:xfrm>
            <a:off x="9820440" y="5254560"/>
            <a:ext cx="2206440" cy="145116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" descr=""/>
          <p:cNvPicPr/>
          <p:nvPr/>
        </p:nvPicPr>
        <p:blipFill>
          <a:blip r:embed="rId2"/>
          <a:stretch/>
        </p:blipFill>
        <p:spPr>
          <a:xfrm>
            <a:off x="623880" y="5349960"/>
            <a:ext cx="171936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10760" y="343080"/>
            <a:ext cx="10882440" cy="11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Context: Global cos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Shape 139"/>
          <p:cNvSpPr/>
          <p:nvPr/>
        </p:nvSpPr>
        <p:spPr>
          <a:xfrm>
            <a:off x="411120" y="1851120"/>
            <a:ext cx="1149840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lobally - 15% of heath spending is wasted on dealing with adverse ev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suggests additional hospitalization, litigation costs, infections, disability, lost productivity and medical expenses cost some countries ~ US$ 19 billion a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lobally - cost of dealing with medication err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estimated at US$ 42 million a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Picture 2" descr=""/>
          <p:cNvPicPr/>
          <p:nvPr/>
        </p:nvPicPr>
        <p:blipFill>
          <a:blip r:embed="rId1"/>
          <a:stretch/>
        </p:blipFill>
        <p:spPr>
          <a:xfrm>
            <a:off x="8091360" y="4457880"/>
            <a:ext cx="335916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10760" y="343080"/>
            <a:ext cx="10882440" cy="11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Context: Investment and development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Shape 139"/>
          <p:cNvSpPr/>
          <p:nvPr/>
        </p:nvSpPr>
        <p:spPr>
          <a:xfrm>
            <a:off x="411120" y="2097000"/>
            <a:ext cx="1149840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1199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vestments to reduce patient safety incidents - USA safety improvement led to estimated US$28 billion saving between 2010-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1199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ducation, research and collaboration - crucial to developing health and social care practice and improving patient safe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1199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O Multi-professional Patient Safety Curriculum Guide (20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2" name="Picture 1" descr=""/>
          <p:cNvPicPr/>
          <p:nvPr/>
        </p:nvPicPr>
        <p:blipFill>
          <a:blip r:embed="rId1"/>
          <a:stretch/>
        </p:blipFill>
        <p:spPr>
          <a:xfrm>
            <a:off x="10779120" y="512640"/>
            <a:ext cx="1130400" cy="133848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5" descr=""/>
          <p:cNvPicPr/>
          <p:nvPr/>
        </p:nvPicPr>
        <p:blipFill>
          <a:blip r:embed="rId2"/>
          <a:stretch/>
        </p:blipFill>
        <p:spPr>
          <a:xfrm>
            <a:off x="10147320" y="5789520"/>
            <a:ext cx="176220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10760" y="343080"/>
            <a:ext cx="10882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Context: Human cos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5" name="Shape 139"/>
          <p:cNvSpPr/>
          <p:nvPr/>
        </p:nvSpPr>
        <p:spPr>
          <a:xfrm>
            <a:off x="1235160" y="1851120"/>
            <a:ext cx="1067436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amily members, relatives and loved 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rganis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6" name="Picture 1" descr=""/>
          <p:cNvPicPr/>
          <p:nvPr/>
        </p:nvPicPr>
        <p:blipFill>
          <a:blip r:embed="rId1"/>
          <a:stretch/>
        </p:blipFill>
        <p:spPr>
          <a:xfrm>
            <a:off x="10520280" y="512640"/>
            <a:ext cx="1130400" cy="133848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5" descr=""/>
          <p:cNvPicPr/>
          <p:nvPr/>
        </p:nvPicPr>
        <p:blipFill>
          <a:blip r:embed="rId2"/>
          <a:stretch/>
        </p:blipFill>
        <p:spPr>
          <a:xfrm>
            <a:off x="8793000" y="487188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55480" y="401760"/>
            <a:ext cx="10815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tudent experienc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514080" y="1596960"/>
            <a:ext cx="10542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om previous SLIPPS team members research we kno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earning about patient safety takes place in and across both academic and practice placement setting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udent are involved in patient safety events of varying degrees – from best practice to adverse ev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ulture may influence student learning and lead to perpetuation of work practi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Pearson, Steven et al 2009, 2010, Cresswell, Steven, Pearson et al. 2013, Steven et al. 2014, Tella et al 2017,2015, 2016, Bagnasco 2010, 2014,2017, Turunen 2013, 2018, 2019, Vizcaya-Moreno 2018, Pérez-Cañaveras 2013,Vizcaya-Moreno MF, Pérez-Cañaveras 2015, Ringstad 2014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5" descr="E:\SLIPPS W and U DRIVEs MAY 18\Erasmus Plus SLIPPS\Web stuff\Photos\UNN Images\nursing-adult-mnurs_3.jpg"/>
          <p:cNvPicPr/>
          <p:nvPr/>
        </p:nvPicPr>
        <p:blipFill>
          <a:blip r:embed="rId1"/>
          <a:stretch/>
        </p:blipFill>
        <p:spPr>
          <a:xfrm>
            <a:off x="9945720" y="689040"/>
            <a:ext cx="18190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39840" y="365040"/>
            <a:ext cx="11013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tudent learning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339480" y="1735200"/>
            <a:ext cx="1145196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often feel that there is a gap between learning about patient safety in academic and clinical setting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earson, Steven et al 2009, Cresswell et a.. 2013, Steven et al. 2014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learn in a variety of care organisations - but their experiences and learning are not systematically utilise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(Tella et al. 2015a,b, 201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nsions exist in learning across academic, organisational and practice contexts, which can impact on students ‘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motional safety for lear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’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(Steven et al 201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Picture 5" descr="E:\SLIPPS W and U DRIVEs MAY 18\Erasmus Plus SLIPPS\TMG Meetings\Face to face TMG meetings\Genova March 2018\IMG_20180307_141148.jpg"/>
          <p:cNvPicPr/>
          <p:nvPr/>
        </p:nvPicPr>
        <p:blipFill>
          <a:blip r:embed="rId1"/>
          <a:stretch/>
        </p:blipFill>
        <p:spPr>
          <a:xfrm>
            <a:off x="10010880" y="5192640"/>
            <a:ext cx="17809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36480" y="163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tudent learning: reflection in and on action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66560" y="1564920"/>
            <a:ext cx="1145232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flecting on errors (and best practice) helps to understand complex situations and assists learning from the experienc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(Mann, Gordon, and MacLeod 2009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are in a special situation the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serve the ‘daily life’ of health and social care organis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arn as part of a team in direct contact with clients and patien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perience a range of events and learn from experience  –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t this experience is often not utilised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6" name="Picture 2" descr=""/>
          <p:cNvPicPr/>
          <p:nvPr/>
        </p:nvPicPr>
        <p:blipFill>
          <a:blip r:embed="rId1"/>
          <a:stretch/>
        </p:blipFill>
        <p:spPr>
          <a:xfrm>
            <a:off x="10076040" y="577800"/>
            <a:ext cx="153324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8T10:49:07Z</dcterms:created>
  <dc:creator>Alison Steven</dc:creator>
  <dc:description/>
  <dc:language>en-US</dc:language>
  <cp:lastModifiedBy>Alison Steven</cp:lastModifiedBy>
  <cp:lastPrinted>2017-11-16T13:48:34Z</cp:lastPrinted>
  <dcterms:modified xsi:type="dcterms:W3CDTF">2019-06-13T13:39:01Z</dcterms:modified>
  <cp:revision>334</cp:revision>
  <dc:subject/>
  <dc:title>Education for Patient Safety:  Sharing learning from national to international contexts</dc:title>
</cp:coreProperties>
</file>