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4.wmf" ContentType="image/x-wmf"/>
  <Override PartName="/ppt/media/image41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38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.wmf" ContentType="image/x-wmf"/>
  <Override PartName="/ppt/media/image40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  <p:sldId id="279" r:id="rId47"/>
    <p:sldId id="280" r:id="rId48"/>
    <p:sldId id="281" r:id="rId49"/>
  </p:sldIdLst>
  <p:sldSz cx="12193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slide" Target="slides/slide24.xml"/><Relationship Id="rId48" Type="http://schemas.openxmlformats.org/officeDocument/2006/relationships/slide" Target="slides/slide25.xml"/><Relationship Id="rId49" Type="http://schemas.openxmlformats.org/officeDocument/2006/relationships/slide" Target="slides/slide2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dt" idx="42"/>
          </p:nvPr>
        </p:nvSpPr>
        <p:spPr>
          <a:xfrm>
            <a:off x="385596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Img"/>
          </p:nvPr>
        </p:nvSpPr>
        <p:spPr>
          <a:xfrm>
            <a:off x="423360" y="1243080"/>
            <a:ext cx="5961240" cy="335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ftr" idx="43"/>
          </p:nvPr>
        </p:nvSpPr>
        <p:spPr>
          <a:xfrm>
            <a:off x="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 type="sldNum" idx="44"/>
          </p:nvPr>
        </p:nvSpPr>
        <p:spPr>
          <a:xfrm>
            <a:off x="385596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AE91-65F2-4575-9E51-92B99757E9B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AC4D-17C4-4D77-AEE8-0B1FC6B7220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0002-D0E0-485E-A785-F8DAD7DEB5A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3005-606A-4EDA-93B4-E7678E73C8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8227-768F-4723-930E-79C84185A20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1F4C-D8CE-4DC7-B077-1BE6052D8C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C3AA-7B29-4FF9-9006-78DCB6313D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69D2-20A0-4AEE-883D-E5728A885EA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thers potentially coming on 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7 Higher Education Instit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+ Health / Social care provi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3058-C99F-4566-8B60-94693752E6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4687-1A85-48BE-8A59-ADA3040A5CA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target groups but as yet not all have participat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0ABC-633C-48A7-AE0C-8946A512E6C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BBC8-EF01-45A4-ACE9-AB37014E430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FD85-4FEC-4413-9CB2-966F9294FA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FDD6-E3D5-4CAA-A5C7-7AAFF504028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56C4-5B76-4FEF-BD5F-2B5F40710DF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64CE-CBE5-495B-8F56-65161C03459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FF07-E538-44E0-A70C-D659B11F29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D403-1085-48B3-B866-638D276734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452520" y="528480"/>
            <a:ext cx="5960880" cy="335448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291960" y="4078440"/>
            <a:ext cx="62834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452520" y="528480"/>
            <a:ext cx="5960880" cy="335448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291960" y="4078440"/>
            <a:ext cx="62834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452520" y="528480"/>
            <a:ext cx="5960880" cy="335448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291960" y="4078440"/>
            <a:ext cx="62834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06D2-4D13-4B38-9F96-CC1A41D570A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E81C-F7D4-48AB-AA49-863EA0A7A9B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A160-FA7F-42E8-9F29-C525AD1273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ABEF-C188-4A00-8062-D1B9B9AA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680-A28B-4CFB-A8A9-155F50B5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6379F-34CA-4FD9-A07C-27249677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CCC46-FC98-412A-A3EE-4054848F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C842F-B8E1-474C-8337-2F0FEBB4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1A41B-BB2C-4CD1-B987-DDEC728E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5A05E-A2F0-4C4A-A066-58E5BCC0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A6FA0-AC17-4F3A-B8C4-4C16CF63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FF5E3-DECA-468C-BB04-2E5B48B9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691F1-B36D-4B5D-AC23-2EA916C6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B2E93-78D6-4510-9E6E-CA883855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C3078-0B1E-46A6-A060-3EEE46D3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1E2-580A-4FFC-96EC-CD25A92A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D1095-8DCF-4CCE-BE11-483DAE4D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179C5-E97E-47D9-A7CC-49AC1CED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E647C-069A-442E-A893-98224013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641C2-10C0-4A88-BB30-5F0E3DB4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86F93-0370-454E-93E8-C7E4F53A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21E95-CF00-47C9-86D3-B734F05B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192A6-FB44-4891-8063-3308D2F3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AC376-845D-4774-8BD3-0422AFAF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8A5A2-B7BE-4C53-8C38-172F9A6A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F06CD-1A57-4A64-9466-058ED808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0A20-FEE3-4704-9D5E-876375EC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20F7D-F351-4628-930E-5D3E604E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560588-A445-4826-B116-9E1010D5C3D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A14E43-4752-4A00-B874-395E127AB25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23EE53-A71B-4C08-972A-34B16824106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FA1C9D-8911-4A4A-8A68-BA84A69FCF7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5CD289-9239-42F8-A285-D738DF5B4CF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4A6C5B-7008-496E-8790-7261AE739FE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530B09-3111-4E4F-8F44-83F2CAE81DF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F480D4-A793-4509-AEFE-F8475900A4B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7A7452-A27D-4A9E-A7AB-E9ED6B05D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0A20-0D19-47BF-8B77-89BA72F7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1D2832-229A-4EE8-8BF3-C38D81C249E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672B75-0D19-445C-9E07-9E9EBDBFA4D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7F95EF-9CCC-45DC-881C-A6A75028881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D6DC72-7E8D-4F54-B910-DE6B7E6AF9C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4A76B8-90EC-4202-BB63-D9C291312FD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4F052A-F3DB-419D-990A-0474BF1517C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F0E41B-F96B-44EE-B332-3D9DB878B32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F676E8-40ED-4066-8E3A-296C06ACAEC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1E9933-58F1-4667-86D1-B8F4CD086F8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734F4C-C80E-4899-9D94-324B640E93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1C09-C3B8-40AE-ADC4-C1475AFE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BC281F-2FD4-48FA-9D3F-F522BD889C3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6886AA-F9FF-4345-B2F7-B3942835057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4A729B-D983-45EB-A4EE-4579B045C24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C6587D-996D-49F8-8E99-007DCE9F376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C966FE-4EB7-4646-A39D-EDC9BB92BEE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60D9B-8E15-44FD-B7D1-D180702BE80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5F0FE-7B7D-4950-B096-3C399FF2D73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8A29A-F232-4C3B-8451-2DB453F84D0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5C332-4264-48C5-BFDC-F181373D421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68125-37A2-4D37-B988-EA428972C0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63B9-EA1F-4ABE-8AF6-093ACBD3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56AC3-F216-48C6-8579-BEB77DFCED0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BBCBB-B2E7-4EFD-ADFC-EE28B6F7DAA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2D5BD-3F3A-4E9B-B7B4-B6E53318830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09538-643D-4D49-A1BA-F556DD93A25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B01DF-0E1A-4226-A695-220412B8AA1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82E77-F20D-44A6-9B02-31B688E568F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A1E2B-A526-4EBB-B82F-CB35FAB04A6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0BD6F7-75DD-4F12-B9E1-C785EAF8769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67C80E-A1E8-4B2E-B3CC-C1AE853CC24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0D2D6F-B553-4FAC-8FCA-970D7C5135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3DD2-FC67-488D-8C19-7F156E42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2468A3-0F12-4CE0-980B-ED83B85C363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F0D58C-C881-420E-B189-1437C3BE729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DD849A-1D29-4694-8A74-166F38BD85C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409CB8-BC38-4EF3-82A1-68D64416A8D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B1F172-DBEB-439C-B399-5FDB8755211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32F9C9-25C1-478F-B6C3-3122426558D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6263ED-071F-448E-94CF-8DCAB7EE231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EC4897-4EEF-4B78-9F62-0845162F136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C04DBA-F836-4424-83B0-70586D34C58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EA8920-B73F-4C3B-86AB-130E56257F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1C9A-2D84-43D5-A877-0AC3F2DA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F029C0-4E61-4C9F-8C05-5CC750D5432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0EC69A-03E0-4E87-A88A-6A95E623789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C18AA9-BF79-4559-B208-CDDE70B268C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F7BB23-8621-4D3F-833A-8486F17D7F9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2CE28B-F655-4956-B2E6-73E8FCF0608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DEDE3A-9DB1-4865-A124-3369FB6DBD7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EFFC90-82AE-4E79-9B68-61EABDBBB1A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54C50D-CC6F-4219-8E7C-DD768F430DB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392584-7EBE-4171-85F3-6E8C9AEC374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EF808C-830D-448A-97AE-923FDFCF65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BA46-E3D9-4013-AC4B-3E2D50C5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EF05A9-ECB5-41DB-B8C7-59AF9B49C2E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D08B0-1B22-4188-B1B6-8D76E0BC19D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7A90D-EE89-44B7-8E5E-BF8C8F4728F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BFA3D-56B5-42A2-BC12-E5D3843687C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C15B6-4875-4BD2-AC99-FEC19D37B83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403DC-9FE5-4EC1-AC5C-7C15D4D86CB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A322D-C71E-43F0-B6A9-3C022CC2068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104233-C834-46DF-AC89-FD3FB29833E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21961-89E2-4BD6-AA28-2E564E70FF0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7909E-2B9A-4781-AD72-674BB81284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ABE2-1D0A-4E84-9F71-30CF801C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72FED-17F4-4DBC-9240-FFEF8889BF7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07B20-CA1A-4964-8191-76BA0E4C298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69055-FE60-479C-98FE-4FC6CD84892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D87949A-C52B-49D2-8197-B9B03A3DD19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D0DFB5-F0EA-492C-9E14-2005C6338FB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A6BE22B-8C1F-4B9D-BC94-75C686990D8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F9CC681-CEC0-450D-BA2A-2408CE35761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BE39A34-14D4-41F0-8B97-912284389A1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A0565A6-7409-46C0-BFE6-97F18360C79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61764AE-14F2-4270-A3CF-C6687B8162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C4DB-F2B4-46D5-BE9B-447EA733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78EE-F828-47BE-BB76-A50D10E9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51AC65-4B41-4FE0-A1DC-366F4FCE378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1AB4362-42E4-4EB3-9DE7-F053CE59113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92116CE-3176-4616-8708-4C8F41ACFFD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B42E1EF-4F9B-4723-B5AD-92A9A1F791A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FC7BA9-DCA5-4015-A536-D7A6DF25815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0FE849-4E2C-4303-8425-1FB6CFEFEB2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276616-EBC8-49C3-98EA-5230C9CEBD3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3154F4-A0C3-4446-AC3C-951135FEBC6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C563F2-6A00-4894-9F89-015A6B8D71FF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9A2792-BFB5-4B07-8D65-8DF191A215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7911-7922-41EC-98F6-26A494B9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81383E-A817-4F37-BEB9-7056B9F6246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24A7CB-15DE-4CF0-A920-15441F317F7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05CF11-75F4-449F-B8B2-AD5D93D8F20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B3CF35-9EFC-45DA-A9DB-06B9C512C84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01A54E-7F94-45C7-8B54-AAC40051437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234966-21F5-4BB1-AC89-49064F01C53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A01837-B1C5-4836-983B-AA6B835EEA7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9CDEB0-A3BB-46F8-B2B7-FC3F0AB78C8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3AE7D2-02A8-45CC-BED2-F7B136454FD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3272E-15F6-4580-A7C5-EF6A051D2A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591E-EA41-408C-9B1D-8F977712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D52CC1-3BDA-4BA9-A557-FB2D826BBC7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0484E6-82BD-46BB-A7FF-9CADC9F3773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E13926-EA3C-40B4-8A8C-5F089F72D53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AE63F-772C-4E58-B586-DC8246EE5BA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0612B5-79A1-4C5B-A48F-34238ACC383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F57096-1BC8-4AEA-B69F-42E8B79C28C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14303F-8D2D-4ACF-BB8A-39186A37954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AFFD3C-66D1-48D8-A310-E79707E696D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18F233-1107-4C3C-B9B8-C9C4FD11A8A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59EAAC7-FC79-4797-9658-B56DFE5E55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7014-8A5E-4FEB-AD1F-C8E08C11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F6ED268-6CAC-46DB-B0CA-59F8B174F58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5414A6A-B765-4E08-AE5B-523BB2B64BE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82A2795-A53F-4D44-B35A-8237AAFD3BF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864A934-69C3-4817-8A59-D83B99A3F95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38D9111-9840-4434-805F-667CEBCF1BD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CF0D368-E376-40C5-9967-C437A0A9ADF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4196601-7D71-4AEB-8BC5-CD0EC96FAA8C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4805168-6C6F-4E3D-9AEF-F777B1BD994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6D4C085-CBFD-45B4-B8E1-0529E743725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FFE65C5-3D81-4687-A851-243A1D0A79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BEDD-A365-4D47-9662-CC09831F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43E95BE-0A13-409A-9C5E-A760096DA71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C131FBB-A3DD-49C2-8D49-E8B202768CD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FEC9BDD-014F-47D8-9C10-0FBA8B8FC9E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704DEC-CDE0-488C-9143-219F5D09E9D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75C16BA-AB88-4F8B-989B-BF004FE0C9B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A2F3CA1-A63B-4CCA-B787-30323262E9D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FF023A-2495-42C2-85E0-DE3829F2A8A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B9DB977-4D4F-4CCC-BE84-38B81BFB3F5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2105AAA-7B3E-4A0A-9CFF-EBFFF73142A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C654B3F-166A-47F8-95C4-FB36E2695B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97ED1-1F37-4DA8-9BAE-D6F3FCBF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4217A40-2B9B-42CC-BF27-F7ED7D911E8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4BBC3C2-F594-4095-B39C-912B1FD784B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468919-9857-413D-999C-B5E7263575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88E31-E964-4E51-BFFF-5307C348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00789-5DFB-4CD9-A545-96418304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38DF4-1B42-47D4-B3AF-CB570A90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566A8-1796-49B0-B055-EEFEB81F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1866-6F2A-4264-BBD9-AD43930A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8F061-C2E4-4938-9D89-247A6739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A130A-C7E0-4730-A890-953223ED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7E432-639F-4F2C-A73E-5C930349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DBA52-1F29-4CD0-BDFB-570485CF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507F0-B943-4139-895D-864D155F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C72E1-6B24-4445-818B-19EA42C6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89002-1B38-47B5-AE38-E5C3D66D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5F112-066D-4ADD-8181-DA90E751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B128E-FADE-4333-8F3B-18888226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7F985-7811-4420-B5A3-A48D0C32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538B-C19C-41E2-BA96-B9C86243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CEA0C-2365-4291-80F2-166B2D1A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90DB2-6125-4DA5-9E55-541573D4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30201-F443-4F91-834C-7A520949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91CC7-8816-4051-9059-F8A2B2AB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EAC8F-2F54-41B1-85DE-AA506090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E2022-DD62-493E-9A09-4AF4BF9A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ED6C9-A321-4987-9910-DC774D92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23CE4-BF5F-4838-8B6B-C6D35366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7C0C6-2B3B-41AC-9D54-71B36C3B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BDAA0-BEA1-4D4E-82A5-1D47CEF8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CAFF-4EE8-420A-B5D3-37EC0891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11BAF-2518-4CDF-BEF6-C552DF60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25F2D-C3AD-4509-825A-D765F34B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C2CAE-4597-42F5-B725-CF793BF5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E6CF9-377C-4903-A290-10F203FA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3E30F-B144-4551-B629-860A988F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EF19A-868F-4D75-92FC-B43D3CE2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58D6E-3115-4051-8634-C0513A6F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7650C-4DBA-4A34-AA2D-4FB992C0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D5D3F-EA09-4FF2-B092-3A69B64F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53169-E01C-446C-80BF-81388B7F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0B25-35BA-4022-979F-558CCC5C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6E53B-14D3-4E28-94B1-4C61A772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6DD28-09B3-4118-AF89-5A96F8A5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004DA-BFC7-4D72-BF6B-FF34BDE0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C5D95-57A4-48B3-8FA8-A89E3432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82C81-FE51-48A0-8194-A103EBFC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EF473-5477-4C20-B98B-C860874E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A69A1-8E92-4207-9C9E-F0D642E6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4B3DA-0FC8-49C9-B62D-7BF888C8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7C2E1-E035-48E6-A11B-6092A805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4B526-F83D-4794-835D-DE471E28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738A-E3CA-43F8-94DB-8D9FC46B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E7534-C34C-4582-9523-0B97156B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43294-2B5D-4468-9E32-7DAA3671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EEF4B-E0B9-459C-9F81-681E74D7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52A4A-5488-4E17-9572-02C8F45F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73D39-FB04-45D1-9895-E452AD67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4DD19-6FC8-43DC-83DF-722D7D52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67AB9-DA72-4512-BE82-81163541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A8895-D30B-4EAD-9F51-07295CE4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768AA-DB2C-465E-B733-D29BFE37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BF83D-E0F3-4E7A-AB92-3F77343A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A9BC-39B7-417F-BD10-6CBCAB61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7E90E-03C0-4C33-AF6C-7DFB0DEC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8905F-62B9-4471-BA2D-3307F9E5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EFB84-2857-4E31-A390-45FD5DAE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E0B4D-F40F-4CC7-A748-E0F3E43E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12DB4-C89A-42F0-A9B2-FAEA5E99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A5BED-F0B7-48F5-8F9E-B5717B45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A5B7F-508E-412C-B9E9-B05DBD2B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2115C-61CA-4272-8CB2-85A65F56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DD330-ADE0-4086-A709-16CE5500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E6F55-C44C-48CF-BD66-863D121E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80FA-B4B6-4C94-A490-5B6B7B0E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976B4-EF6F-4E6D-85AF-9CF4A8BF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11DC9-2A99-47B6-8381-1D693982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C2C8F-FAE8-4733-8F63-F6BA4772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F2922-58AE-4DFA-9B60-8CC7F0D6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FA719-1352-43E0-9EA1-CACECCD7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C1FC6-F6DB-4A2B-8808-22925368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3D6ED-4189-43C9-BA8E-5B362C8E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A20D9-F819-4AD4-80E9-51636DCE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BB5CF-9A7F-4CAF-9C41-301C7498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FD9B2-D97C-41E4-A28A-F9AA54DF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8473-F024-4553-B4ED-18169C88095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175B-A276-4F23-B58E-C6C87B133CC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3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7C52-B0D2-4A25-8FE3-66B4A7AAF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sldNum" idx="3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9AB8-478E-47AD-BF2E-30E3D0C97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B240-6930-4541-AC43-41028FC5C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Num" idx="3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571F-6FBD-47FD-9317-C76F25FF2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sldNum" idx="3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324E-D2D7-489E-A199-71B9E889C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C78A-7338-479D-8808-E71F6FD7C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sldNum" idx="3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0DA1-5EEC-4A4F-8274-F1B3320C1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Num" idx="3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D555-CB8F-4E55-A948-B3EBC3616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FB17-792A-45EF-AAB7-BE36A09D2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E058-A437-41E7-B8AB-42A17308D0E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Num" idx="4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BE29-4F0E-440A-8791-3E8CC01C5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sldNum" idx="4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3F80-8DF2-4E17-9A33-9678AF963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9B67-9F69-4206-9D1A-BBF0C54A444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BC30-0B44-45FA-8D5B-F0EFF0FE927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4FC7-BAD3-4290-9A8F-1C3E221643C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6EC2-A8C5-449E-85D3-70A428A271C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4F88-D529-48AC-8526-7875F9240A4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82AF-A788-42B7-8BB4-24207E7FF97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E479-5F9D-4FC7-BFEA-FAB09C53C5F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9.png"/><Relationship Id="rId11" Type="http://schemas.openxmlformats.org/officeDocument/2006/relationships/image" Target="../media/image37.png"/><Relationship Id="rId12" Type="http://schemas.openxmlformats.org/officeDocument/2006/relationships/hyperlink" Target="http://www.newcastle-hospitals.org.uk/index.aspx" TargetMode="External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slideLayout" Target="../slideLayouts/slideLayout25.xml"/><Relationship Id="rId1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hyperlink" Target="https://www.slipps.eu/" TargetMode="External"/><Relationship Id="rId5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288720" y="235080"/>
            <a:ext cx="11667960" cy="135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e79"/>
                </a:solidFill>
                <a:latin typeface="Arial"/>
                <a:ea typeface="Arial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haring </a:t>
            </a: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earn</a:t>
            </a: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ng from </a:t>
            </a: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ractice to improve </a:t>
            </a: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atient </a:t>
            </a: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afety </a:t>
            </a: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(</a:t>
            </a:r>
            <a:r>
              <a:rPr b="0" i="1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SLIPPS</a:t>
            </a: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47" name="Picture 1" descr=""/>
          <p:cNvPicPr/>
          <p:nvPr/>
        </p:nvPicPr>
        <p:blipFill>
          <a:blip r:embed="rId1"/>
          <a:stretch/>
        </p:blipFill>
        <p:spPr>
          <a:xfrm>
            <a:off x="4950000" y="2062080"/>
            <a:ext cx="2259000" cy="2676600"/>
          </a:xfrm>
          <a:prstGeom prst="rect">
            <a:avLst/>
          </a:prstGeom>
          <a:ln w="0">
            <a:noFill/>
          </a:ln>
        </p:spPr>
      </p:pic>
      <p:sp>
        <p:nvSpPr>
          <p:cNvPr id="848" name="TextBox 1"/>
          <p:cNvSpPr/>
          <p:nvPr/>
        </p:nvSpPr>
        <p:spPr>
          <a:xfrm>
            <a:off x="4524480" y="4856040"/>
            <a:ext cx="34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e75b6"/>
                </a:solidFill>
                <a:latin typeface="Calibri"/>
              </a:rPr>
              <a:t>https://www.slipps.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9" name="Picture 2" descr=""/>
          <p:cNvPicPr/>
          <p:nvPr/>
        </p:nvPicPr>
        <p:blipFill>
          <a:blip r:embed="rId2"/>
          <a:stretch/>
        </p:blipFill>
        <p:spPr>
          <a:xfrm>
            <a:off x="550800" y="5559480"/>
            <a:ext cx="3092400" cy="88884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10" descr=""/>
          <p:cNvPicPr/>
          <p:nvPr/>
        </p:nvPicPr>
        <p:blipFill>
          <a:blip r:embed="rId3"/>
          <a:stretch/>
        </p:blipFill>
        <p:spPr>
          <a:xfrm>
            <a:off x="9593280" y="2679840"/>
            <a:ext cx="1585800" cy="100620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12" descr=""/>
          <p:cNvPicPr/>
          <p:nvPr/>
        </p:nvPicPr>
        <p:blipFill>
          <a:blip r:embed="rId4"/>
          <a:stretch/>
        </p:blipFill>
        <p:spPr>
          <a:xfrm>
            <a:off x="450720" y="3846600"/>
            <a:ext cx="1587600" cy="10065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13" descr=""/>
          <p:cNvPicPr/>
          <p:nvPr/>
        </p:nvPicPr>
        <p:blipFill>
          <a:blip r:embed="rId5"/>
          <a:stretch/>
        </p:blipFill>
        <p:spPr>
          <a:xfrm>
            <a:off x="10215720" y="3865680"/>
            <a:ext cx="1558800" cy="9874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14" descr=""/>
          <p:cNvPicPr/>
          <p:nvPr/>
        </p:nvPicPr>
        <p:blipFill>
          <a:blip r:embed="rId6"/>
          <a:stretch/>
        </p:blipFill>
        <p:spPr>
          <a:xfrm>
            <a:off x="1274760" y="2681280"/>
            <a:ext cx="1585800" cy="100476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15" descr=""/>
          <p:cNvPicPr/>
          <p:nvPr/>
        </p:nvPicPr>
        <p:blipFill>
          <a:blip r:embed="rId7"/>
          <a:stretch/>
        </p:blipFill>
        <p:spPr>
          <a:xfrm>
            <a:off x="2097000" y="1581120"/>
            <a:ext cx="1587600" cy="100008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4" descr=""/>
          <p:cNvPicPr/>
          <p:nvPr/>
        </p:nvPicPr>
        <p:blipFill>
          <a:blip r:embed="rId8"/>
          <a:stretch/>
        </p:blipFill>
        <p:spPr>
          <a:xfrm>
            <a:off x="4732200" y="5554800"/>
            <a:ext cx="2775240" cy="89352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13" descr=""/>
          <p:cNvPicPr/>
          <p:nvPr/>
        </p:nvPicPr>
        <p:blipFill>
          <a:blip r:embed="rId9"/>
          <a:stretch/>
        </p:blipFill>
        <p:spPr>
          <a:xfrm>
            <a:off x="8788320" y="5554800"/>
            <a:ext cx="2206800" cy="89352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2" descr=""/>
          <p:cNvPicPr/>
          <p:nvPr/>
        </p:nvPicPr>
        <p:blipFill>
          <a:blip r:embed="rId10"/>
          <a:stretch/>
        </p:blipFill>
        <p:spPr>
          <a:xfrm>
            <a:off x="8474040" y="1581120"/>
            <a:ext cx="189072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Content Placeholder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237680" y="4675320"/>
            <a:ext cx="1208160" cy="143172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39560" y="587520"/>
            <a:ext cx="1131264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1f4e79"/>
                </a:solidFill>
                <a:latin typeface="Arial"/>
                <a:ea typeface="Arial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haring </a:t>
            </a:r>
            <a:r>
              <a:rPr b="0" lang="en-GB" sz="3600" spc="-1" strike="noStrike">
                <a:solidFill>
                  <a:srgbClr val="44546a"/>
                </a:solidFill>
                <a:latin typeface="Arial"/>
                <a:ea typeface="Arial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earn</a:t>
            </a:r>
            <a:r>
              <a:rPr b="0" lang="en-GB" sz="3600" spc="-1" strike="noStrike">
                <a:solidFill>
                  <a:srgbClr val="1f4e79"/>
                </a:solidFill>
                <a:latin typeface="Arial"/>
                <a:ea typeface="Arial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ng from </a:t>
            </a:r>
            <a:r>
              <a:rPr b="0" lang="en-GB" sz="3600" spc="-1" strike="noStrike">
                <a:solidFill>
                  <a:srgbClr val="1f4e79"/>
                </a:solidFill>
                <a:latin typeface="Arial"/>
                <a:ea typeface="Arial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ractice to improve </a:t>
            </a:r>
            <a:r>
              <a:rPr b="0" lang="en-GB" sz="3600" spc="-1" strike="noStrike">
                <a:solidFill>
                  <a:srgbClr val="1f4e79"/>
                </a:solidFill>
                <a:latin typeface="Arial"/>
                <a:ea typeface="Arial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atient </a:t>
            </a:r>
            <a:r>
              <a:rPr b="0" lang="en-GB" sz="3600" spc="-1" strike="noStrike">
                <a:solidFill>
                  <a:srgbClr val="1f4e79"/>
                </a:solidFill>
                <a:latin typeface="Arial"/>
                <a:ea typeface="Arial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afety </a:t>
            </a:r>
            <a:r>
              <a:rPr b="0" lang="en-GB" sz="3600" spc="-1" strike="noStrike">
                <a:solidFill>
                  <a:srgbClr val="1f4e79"/>
                </a:solidFill>
                <a:latin typeface="Arial"/>
                <a:ea typeface="Arial"/>
              </a:rPr>
              <a:t>(SLIPPS)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0" name="Picture 4" descr=""/>
          <p:cNvPicPr/>
          <p:nvPr/>
        </p:nvPicPr>
        <p:blipFill>
          <a:blip r:embed="rId2"/>
          <a:stretch/>
        </p:blipFill>
        <p:spPr>
          <a:xfrm>
            <a:off x="782640" y="5781600"/>
            <a:ext cx="2782800" cy="797040"/>
          </a:xfrm>
          <a:prstGeom prst="rect">
            <a:avLst/>
          </a:prstGeom>
          <a:ln w="0">
            <a:noFill/>
          </a:ln>
        </p:spPr>
      </p:pic>
      <p:sp>
        <p:nvSpPr>
          <p:cNvPr id="891" name="Shape 139"/>
          <p:cNvSpPr/>
          <p:nvPr/>
        </p:nvSpPr>
        <p:spPr>
          <a:xfrm>
            <a:off x="782640" y="2835360"/>
            <a:ext cx="10841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3 year project from September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ncompassing: Educational research, innovation and collaboration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5 countries, 7 HEIs and multiple Health/social care organis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1"/>
          <p:cNvSpPr/>
          <p:nvPr/>
        </p:nvSpPr>
        <p:spPr>
          <a:xfrm>
            <a:off x="9328320" y="6392880"/>
            <a:ext cx="272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03864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203864"/>
                </a:solidFill>
                <a:uFillTx/>
                <a:latin typeface="Calibri"/>
              </a:rPr>
              <a:t>https://www.slipps.eu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13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e79"/>
                </a:solidFill>
                <a:latin typeface="Arial"/>
                <a:ea typeface="Arial"/>
              </a:rPr>
              <a:t>SLIPPS: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verall purpose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457200" y="1437840"/>
            <a:ext cx="111888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draw on the untapped potential of th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al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‘important learning events’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perienced by students while in practice plac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e75b6"/>
                </a:solidFill>
                <a:latin typeface="Calibri"/>
              </a:rPr>
              <a:t>To develop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ducational tools and resources, and make them freely availab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eater understandings of how witnessing or involvement in incidents influences students (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and potentially future practice and cultur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eater understanding of patient safety learning events diversity across professions, nations and health care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igh quality research into learning events, safety culture and professional wor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5" name="Picture 4" descr=""/>
          <p:cNvPicPr/>
          <p:nvPr/>
        </p:nvPicPr>
        <p:blipFill>
          <a:blip r:embed="rId1"/>
          <a:stretch/>
        </p:blipFill>
        <p:spPr>
          <a:xfrm>
            <a:off x="11279160" y="5738760"/>
            <a:ext cx="7318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Content Placeholder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483760" y="2690640"/>
            <a:ext cx="3338280" cy="3957840"/>
          </a:xfrm>
          <a:prstGeom prst="rect">
            <a:avLst/>
          </a:prstGeom>
          <a:ln w="0">
            <a:noFill/>
          </a:ln>
        </p:spPr>
      </p:pic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76080" y="183960"/>
            <a:ext cx="11312280" cy="13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SLIPPS: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Important learning events 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hape 139"/>
          <p:cNvSpPr/>
          <p:nvPr/>
        </p:nvSpPr>
        <p:spPr>
          <a:xfrm>
            <a:off x="676440" y="1724040"/>
            <a:ext cx="1084104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463"/>
              </a:spcBef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ortant patient safety leaning events can be described as significant events or experience in a learners’ lif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mething memorable for them, it does not need to be a major ev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mething they feel strongly influenced their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positive, satisfactory ev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negative, unsatisfactory ev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Content Placeholder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9807480" y="1930320"/>
            <a:ext cx="2014560" cy="2387520"/>
          </a:xfrm>
          <a:prstGeom prst="rect">
            <a:avLst/>
          </a:prstGeom>
          <a:ln w="0">
            <a:noFill/>
          </a:ln>
        </p:spPr>
      </p:pic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39560" y="183960"/>
            <a:ext cx="11312640" cy="13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Key elements &amp; outputs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2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hape 139"/>
          <p:cNvSpPr/>
          <p:nvPr/>
        </p:nvSpPr>
        <p:spPr>
          <a:xfrm>
            <a:off x="676440" y="1503360"/>
            <a:ext cx="1084104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LIPPS Learning Event Recording Tool (SLE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ual purpose: Both data collection method and educational device, for students to both record events and reflect upon th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ulti level Database of event records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ocal, Transnational, Publi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reation of educational resources to be freely availab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Simulation Scenari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Virtual semina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Website and open access Learning Centre (SVL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797040" y="-46080"/>
            <a:ext cx="103471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SLIPPS project work pla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797040" y="1012680"/>
            <a:ext cx="1931760" cy="1586160"/>
          </a:xfrm>
          <a:prstGeom prst="rect">
            <a:avLst/>
          </a:prstGeom>
          <a:solidFill>
            <a:srgbClr val="9dc3e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Primary e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Rectangle 4"/>
          <p:cNvSpPr/>
          <p:nvPr/>
        </p:nvSpPr>
        <p:spPr>
          <a:xfrm>
            <a:off x="797040" y="2755800"/>
            <a:ext cx="1931760" cy="1516320"/>
          </a:xfrm>
          <a:prstGeom prst="rect">
            <a:avLst/>
          </a:prstGeom>
          <a:solidFill>
            <a:srgbClr val="2e75b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Activating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Rectangle 5"/>
          <p:cNvSpPr/>
          <p:nvPr/>
        </p:nvSpPr>
        <p:spPr>
          <a:xfrm>
            <a:off x="797040" y="4519440"/>
            <a:ext cx="1931760" cy="1905120"/>
          </a:xfrm>
          <a:prstGeom prst="rect">
            <a:avLst/>
          </a:prstGeom>
          <a:solidFill>
            <a:srgbClr val="1f4e79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Analysis and resource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Rectangle 6"/>
          <p:cNvSpPr/>
          <p:nvPr/>
        </p:nvSpPr>
        <p:spPr>
          <a:xfrm>
            <a:off x="3014640" y="1023840"/>
            <a:ext cx="2743200" cy="1575000"/>
          </a:xfrm>
          <a:prstGeom prst="rect">
            <a:avLst/>
          </a:prstGeom>
          <a:solidFill>
            <a:srgbClr val="9dc3e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Web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LER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9" name="Rectangle 8" descr=""/>
          <p:cNvPicPr/>
          <p:nvPr/>
        </p:nvPicPr>
        <p:blipFill>
          <a:blip r:embed="rId1"/>
          <a:stretch/>
        </p:blipFill>
        <p:spPr>
          <a:xfrm>
            <a:off x="6126120" y="1017720"/>
            <a:ext cx="847800" cy="5413320"/>
          </a:xfrm>
          <a:prstGeom prst="rect">
            <a:avLst/>
          </a:prstGeom>
          <a:ln w="0">
            <a:noFill/>
          </a:ln>
        </p:spPr>
      </p:pic>
      <p:sp>
        <p:nvSpPr>
          <p:cNvPr id="910" name="Rectangle 9"/>
          <p:cNvSpPr/>
          <p:nvPr/>
        </p:nvSpPr>
        <p:spPr>
          <a:xfrm>
            <a:off x="3029040" y="2719440"/>
            <a:ext cx="2728800" cy="1469880"/>
          </a:xfrm>
          <a:prstGeom prst="rect">
            <a:avLst/>
          </a:prstGeom>
          <a:solidFill>
            <a:srgbClr val="2e75b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Collecting SL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Rectangle 10"/>
          <p:cNvSpPr/>
          <p:nvPr/>
        </p:nvSpPr>
        <p:spPr>
          <a:xfrm>
            <a:off x="3013200" y="4508640"/>
            <a:ext cx="2744640" cy="1915920"/>
          </a:xfrm>
          <a:prstGeom prst="rect">
            <a:avLst/>
          </a:prstGeom>
          <a:solidFill>
            <a:srgbClr val="1f4e79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Analysis of SL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Development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Rectangle 11"/>
          <p:cNvSpPr/>
          <p:nvPr/>
        </p:nvSpPr>
        <p:spPr>
          <a:xfrm>
            <a:off x="7470720" y="4519440"/>
            <a:ext cx="3882960" cy="1905120"/>
          </a:xfrm>
          <a:prstGeom prst="rect">
            <a:avLst/>
          </a:prstGeom>
          <a:solidFill>
            <a:srgbClr val="1f4e79"/>
          </a:solidFill>
          <a:ln w="1260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Simulation Scenar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Virtual semin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3" name="Straight Arrow Connector 16"/>
          <p:cNvCxnSpPr/>
          <p:nvPr/>
        </p:nvCxnSpPr>
        <p:spPr>
          <a:xfrm flipH="1">
            <a:off x="1126440" y="4206600"/>
            <a:ext cx="1080" cy="353160"/>
          </a:xfrm>
          <a:prstGeom prst="straightConnector1">
            <a:avLst/>
          </a:prstGeom>
          <a:ln w="50760">
            <a:solidFill>
              <a:srgbClr val="2e75b6"/>
            </a:solidFill>
            <a:miter/>
            <a:tailEnd len="med" type="arrow" w="med"/>
          </a:ln>
        </p:spPr>
      </p:cxnSp>
      <p:cxnSp>
        <p:nvCxnSpPr>
          <p:cNvPr id="914" name="Straight Arrow Connector 17"/>
          <p:cNvCxnSpPr/>
          <p:nvPr/>
        </p:nvCxnSpPr>
        <p:spPr>
          <a:xfrm>
            <a:off x="1025280" y="2598480"/>
            <a:ext cx="1080" cy="315000"/>
          </a:xfrm>
          <a:prstGeom prst="straightConnector1">
            <a:avLst/>
          </a:prstGeom>
          <a:ln w="5076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915" name="Straight Arrow Connector 18"/>
          <p:cNvCxnSpPr>
            <a:endCxn id="910" idx="1"/>
          </p:cNvCxnSpPr>
          <p:nvPr/>
        </p:nvCxnSpPr>
        <p:spPr>
          <a:xfrm>
            <a:off x="2728800" y="3403440"/>
            <a:ext cx="300600" cy="51840"/>
          </a:xfrm>
          <a:prstGeom prst="straightConnector1">
            <a:avLst/>
          </a:prstGeom>
          <a:ln w="50760">
            <a:solidFill>
              <a:srgbClr val="2e75b6"/>
            </a:solidFill>
            <a:miter/>
            <a:tailEnd len="med" type="arrow" w="med"/>
          </a:ln>
        </p:spPr>
      </p:cxnSp>
      <p:cxnSp>
        <p:nvCxnSpPr>
          <p:cNvPr id="916" name="Straight Arrow Connector 21"/>
          <p:cNvCxnSpPr/>
          <p:nvPr/>
        </p:nvCxnSpPr>
        <p:spPr>
          <a:xfrm>
            <a:off x="2610000" y="5313240"/>
            <a:ext cx="419760" cy="13680"/>
          </a:xfrm>
          <a:prstGeom prst="straightConnector1">
            <a:avLst/>
          </a:prstGeom>
          <a:ln w="50760">
            <a:solidFill>
              <a:srgbClr val="1f4e79"/>
            </a:solidFill>
            <a:miter/>
            <a:tailEnd len="med" type="arrow" w="med"/>
          </a:ln>
        </p:spPr>
      </p:cxnSp>
      <p:cxnSp>
        <p:nvCxnSpPr>
          <p:cNvPr id="917" name="Straight Arrow Connector 25"/>
          <p:cNvCxnSpPr>
            <a:stCxn id="911" idx="3"/>
            <a:endCxn id="912" idx="1"/>
          </p:cNvCxnSpPr>
          <p:nvPr/>
        </p:nvCxnSpPr>
        <p:spPr>
          <a:xfrm>
            <a:off x="5757840" y="5466960"/>
            <a:ext cx="1713600" cy="5400"/>
          </a:xfrm>
          <a:prstGeom prst="straightConnector1">
            <a:avLst/>
          </a:prstGeom>
          <a:ln w="50760">
            <a:solidFill>
              <a:srgbClr val="1f4e79"/>
            </a:solidFill>
            <a:miter/>
            <a:tailEnd len="med" type="arrow" w="med"/>
          </a:ln>
        </p:spPr>
      </p:cxnSp>
      <p:sp>
        <p:nvSpPr>
          <p:cNvPr id="918" name="Rectangle 26"/>
          <p:cNvSpPr/>
          <p:nvPr/>
        </p:nvSpPr>
        <p:spPr>
          <a:xfrm>
            <a:off x="7470720" y="1001880"/>
            <a:ext cx="3882960" cy="3147840"/>
          </a:xfrm>
          <a:prstGeom prst="rect">
            <a:avLst/>
          </a:prstGeom>
          <a:solidFill>
            <a:srgbClr val="a9d18e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LIPPS Learning Cent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(on SLIPPS websit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Rectangle 27"/>
          <p:cNvSpPr/>
          <p:nvPr/>
        </p:nvSpPr>
        <p:spPr>
          <a:xfrm>
            <a:off x="7829640" y="1163520"/>
            <a:ext cx="3124080" cy="927360"/>
          </a:xfrm>
          <a:prstGeom prst="rect">
            <a:avLst/>
          </a:prstGeom>
          <a:solidFill>
            <a:srgbClr val="2e75b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Section of TN Database acces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Rectangle 28"/>
          <p:cNvSpPr/>
          <p:nvPr/>
        </p:nvSpPr>
        <p:spPr>
          <a:xfrm>
            <a:off x="7829640" y="3021120"/>
            <a:ext cx="3124080" cy="866520"/>
          </a:xfrm>
          <a:prstGeom prst="rect">
            <a:avLst/>
          </a:prstGeom>
          <a:solidFill>
            <a:srgbClr val="2e75b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Outputs/ resources freely avail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1" name="Straight Arrow Connector 29"/>
          <p:cNvCxnSpPr>
            <a:stCxn id="912" idx="0"/>
          </p:cNvCxnSpPr>
          <p:nvPr/>
        </p:nvCxnSpPr>
        <p:spPr>
          <a:xfrm flipH="1" flipV="1">
            <a:off x="9391320" y="4023720"/>
            <a:ext cx="20880" cy="495720"/>
          </a:xfrm>
          <a:prstGeom prst="straightConnector1">
            <a:avLst/>
          </a:prstGeom>
          <a:ln w="82440">
            <a:solidFill>
              <a:srgbClr val="2e75b6"/>
            </a:solidFill>
            <a:miter/>
            <a:tailEnd len="med" type="triangle" w="med"/>
          </a:ln>
        </p:spPr>
      </p:cxnSp>
      <p:cxnSp>
        <p:nvCxnSpPr>
          <p:cNvPr id="922" name="Straight Arrow Connector 33"/>
          <p:cNvCxnSpPr>
            <a:endCxn id="908" idx="1"/>
          </p:cNvCxnSpPr>
          <p:nvPr/>
        </p:nvCxnSpPr>
        <p:spPr>
          <a:xfrm>
            <a:off x="2610000" y="1804680"/>
            <a:ext cx="405360" cy="6840"/>
          </a:xfrm>
          <a:prstGeom prst="straightConnector1">
            <a:avLst/>
          </a:prstGeom>
          <a:ln w="50760">
            <a:solidFill>
              <a:srgbClr val="9dc3e6"/>
            </a:solidFill>
            <a:miter/>
            <a:tailEnd len="med" type="arrow" w="med"/>
          </a:ln>
        </p:spPr>
      </p:cxnSp>
      <p:cxnSp>
        <p:nvCxnSpPr>
          <p:cNvPr id="923" name="Straight Arrow Connector 40"/>
          <p:cNvCxnSpPr/>
          <p:nvPr/>
        </p:nvCxnSpPr>
        <p:spPr>
          <a:xfrm>
            <a:off x="6970680" y="1626840"/>
            <a:ext cx="859680" cy="1080"/>
          </a:xfrm>
          <a:prstGeom prst="straightConnector1">
            <a:avLst/>
          </a:prstGeom>
          <a:ln w="50760">
            <a:solidFill>
              <a:srgbClr val="1f4e79"/>
            </a:solidFill>
            <a:miter/>
            <a:tailEnd len="med" type="arrow" w="med"/>
          </a:ln>
        </p:spPr>
      </p:cxnSp>
      <p:cxnSp>
        <p:nvCxnSpPr>
          <p:cNvPr id="924" name="Straight Arrow Connector 51"/>
          <p:cNvCxnSpPr/>
          <p:nvPr/>
        </p:nvCxnSpPr>
        <p:spPr>
          <a:xfrm flipV="1">
            <a:off x="5770440" y="3454200"/>
            <a:ext cx="488160" cy="20880"/>
          </a:xfrm>
          <a:prstGeom prst="straightConnector1">
            <a:avLst/>
          </a:prstGeom>
          <a:ln w="50760">
            <a:solidFill>
              <a:srgbClr val="2e75b6"/>
            </a:solidFill>
            <a:miter/>
            <a:tailEnd len="med" type="arrow" w="med"/>
          </a:ln>
        </p:spPr>
      </p:cxnSp>
      <p:cxnSp>
        <p:nvCxnSpPr>
          <p:cNvPr id="925" name="Straight Arrow Connector 54"/>
          <p:cNvCxnSpPr/>
          <p:nvPr/>
        </p:nvCxnSpPr>
        <p:spPr>
          <a:xfrm>
            <a:off x="6970320" y="4809600"/>
            <a:ext cx="500760" cy="18360"/>
          </a:xfrm>
          <a:prstGeom prst="straightConnector1">
            <a:avLst/>
          </a:prstGeom>
          <a:ln w="50760">
            <a:solidFill>
              <a:srgbClr val="1f4e7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7" name="Group 6" descr=""/>
          <p:cNvPicPr/>
          <p:nvPr/>
        </p:nvPicPr>
        <p:blipFill>
          <a:blip r:embed="rId1"/>
          <a:stretch/>
        </p:blipFill>
        <p:spPr>
          <a:xfrm>
            <a:off x="4791240" y="2298600"/>
            <a:ext cx="2908080" cy="2333880"/>
          </a:xfrm>
          <a:prstGeom prst="rect">
            <a:avLst/>
          </a:prstGeom>
          <a:ln w="0">
            <a:noFill/>
          </a:ln>
        </p:spPr>
      </p:pic>
      <p:pic>
        <p:nvPicPr>
          <p:cNvPr id="928" name="Group 8" descr=""/>
          <p:cNvPicPr/>
          <p:nvPr/>
        </p:nvPicPr>
        <p:blipFill>
          <a:blip r:embed="rId2"/>
          <a:stretch/>
        </p:blipFill>
        <p:spPr>
          <a:xfrm>
            <a:off x="5016600" y="176040"/>
            <a:ext cx="2627280" cy="2043360"/>
          </a:xfrm>
          <a:prstGeom prst="rect">
            <a:avLst/>
          </a:prstGeom>
          <a:ln w="0">
            <a:noFill/>
          </a:ln>
        </p:spPr>
      </p:pic>
      <p:pic>
        <p:nvPicPr>
          <p:cNvPr id="929" name="Group 10" descr=""/>
          <p:cNvPicPr/>
          <p:nvPr/>
        </p:nvPicPr>
        <p:blipFill>
          <a:blip r:embed="rId3"/>
          <a:stretch/>
        </p:blipFill>
        <p:spPr>
          <a:xfrm>
            <a:off x="7223040" y="1352520"/>
            <a:ext cx="2549520" cy="2116080"/>
          </a:xfrm>
          <a:prstGeom prst="rect">
            <a:avLst/>
          </a:prstGeom>
          <a:ln w="0">
            <a:noFill/>
          </a:ln>
        </p:spPr>
      </p:pic>
      <p:pic>
        <p:nvPicPr>
          <p:cNvPr id="930" name="Group 12" descr=""/>
          <p:cNvPicPr/>
          <p:nvPr/>
        </p:nvPicPr>
        <p:blipFill>
          <a:blip r:embed="rId4"/>
          <a:stretch/>
        </p:blipFill>
        <p:spPr>
          <a:xfrm>
            <a:off x="7272360" y="3651120"/>
            <a:ext cx="2590920" cy="2159280"/>
          </a:xfrm>
          <a:prstGeom prst="rect">
            <a:avLst/>
          </a:prstGeom>
          <a:ln w="0">
            <a:noFill/>
          </a:ln>
        </p:spPr>
      </p:pic>
      <p:grpSp>
        <p:nvGrpSpPr>
          <p:cNvPr id="931" name="Group 14"/>
          <p:cNvGrpSpPr/>
          <p:nvPr/>
        </p:nvGrpSpPr>
        <p:grpSpPr>
          <a:xfrm>
            <a:off x="5149800" y="4675320"/>
            <a:ext cx="2446560" cy="2058840"/>
            <a:chOff x="5149800" y="4675320"/>
            <a:chExt cx="2446560" cy="2058840"/>
          </a:xfrm>
        </p:grpSpPr>
        <p:sp>
          <p:nvSpPr>
            <p:cNvPr id="932" name="Hexagon 22"/>
            <p:cNvSpPr/>
            <p:nvPr/>
          </p:nvSpPr>
          <p:spPr>
            <a:xfrm>
              <a:off x="5149800" y="4675320"/>
              <a:ext cx="2446560" cy="2058840"/>
            </a:xfrm>
            <a:prstGeom prst="hexagon">
              <a:avLst>
                <a:gd name="adj" fmla="val 25356"/>
                <a:gd name="vf" fmla="val 115470"/>
              </a:avLst>
            </a:prstGeom>
            <a:solidFill>
              <a:srgbClr val="4472c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Hexagon 16"/>
            <p:cNvSpPr/>
            <p:nvPr/>
          </p:nvSpPr>
          <p:spPr>
            <a:xfrm>
              <a:off x="5527440" y="4993200"/>
              <a:ext cx="1690920" cy="14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rm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UEF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Kuopio -Finlan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26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</a:rPr>
                <a:t>Hannele Turune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</a:rPr>
                <a:t>Mina Azimira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</a:rPr>
                <a:t>Kaisa Haataine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4" name="Group 16" descr=""/>
          <p:cNvPicPr/>
          <p:nvPr/>
        </p:nvPicPr>
        <p:blipFill>
          <a:blip r:embed="rId5"/>
          <a:stretch/>
        </p:blipFill>
        <p:spPr>
          <a:xfrm>
            <a:off x="2571840" y="3913200"/>
            <a:ext cx="2792160" cy="2232000"/>
          </a:xfrm>
          <a:prstGeom prst="rect">
            <a:avLst/>
          </a:prstGeom>
          <a:ln w="0">
            <a:noFill/>
          </a:ln>
        </p:spPr>
      </p:pic>
      <p:grpSp>
        <p:nvGrpSpPr>
          <p:cNvPr id="935" name="Group 17"/>
          <p:cNvGrpSpPr/>
          <p:nvPr/>
        </p:nvGrpSpPr>
        <p:grpSpPr>
          <a:xfrm>
            <a:off x="2587680" y="749160"/>
            <a:ext cx="2562120" cy="2105280"/>
            <a:chOff x="2587680" y="749160"/>
            <a:chExt cx="2562120" cy="2105280"/>
          </a:xfrm>
        </p:grpSpPr>
        <p:sp>
          <p:nvSpPr>
            <p:cNvPr id="936" name="Hexagon 18"/>
            <p:cNvSpPr/>
            <p:nvPr/>
          </p:nvSpPr>
          <p:spPr>
            <a:xfrm>
              <a:off x="2587680" y="749160"/>
              <a:ext cx="2562120" cy="2105280"/>
            </a:xfrm>
            <a:prstGeom prst="hexagon">
              <a:avLst>
                <a:gd name="adj" fmla="val 28075"/>
                <a:gd name="vf" fmla="val 115470"/>
              </a:avLst>
            </a:prstGeom>
            <a:solidFill>
              <a:srgbClr val="7030a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Hexagon 21"/>
            <p:cNvSpPr/>
            <p:nvPr/>
          </p:nvSpPr>
          <p:spPr>
            <a:xfrm>
              <a:off x="3063960" y="1270440"/>
              <a:ext cx="1740960" cy="14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rmAutofit fontScale="97000"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LU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Lappeenranta -Finlan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</a:rPr>
                <a:t>Jari Porra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</a:rPr>
                <a:t>Jayden Khakure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8" name="Oval 32"/>
          <p:cNvSpPr/>
          <p:nvPr/>
        </p:nvSpPr>
        <p:spPr>
          <a:xfrm>
            <a:off x="6921360" y="6021360"/>
            <a:ext cx="1866960" cy="676440"/>
          </a:xfrm>
          <a:prstGeom prst="ellipse">
            <a:avLst/>
          </a:prstGeom>
          <a:solidFill>
            <a:srgbClr val="4472c4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等线"/>
              </a:rPr>
              <a:t>Kuopio University Hospi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Oval 33"/>
          <p:cNvSpPr/>
          <p:nvPr/>
        </p:nvSpPr>
        <p:spPr>
          <a:xfrm>
            <a:off x="9434520" y="4816440"/>
            <a:ext cx="1795320" cy="70488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等线"/>
              </a:rPr>
              <a:t>San Martino Hospital, Geno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Oval 34"/>
          <p:cNvSpPr/>
          <p:nvPr/>
        </p:nvSpPr>
        <p:spPr>
          <a:xfrm>
            <a:off x="3408480" y="2911320"/>
            <a:ext cx="1912680" cy="870120"/>
          </a:xfrm>
          <a:prstGeom prst="ellipse">
            <a:avLst/>
          </a:prstGeom>
          <a:solidFill>
            <a:srgbClr val="002060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等线"/>
              </a:rPr>
              <a:t>Northumbria Healthcare Foundation Tr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Oval 35"/>
          <p:cNvSpPr/>
          <p:nvPr/>
        </p:nvSpPr>
        <p:spPr>
          <a:xfrm>
            <a:off x="9263160" y="1542960"/>
            <a:ext cx="1896840" cy="790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等线"/>
              </a:rPr>
              <a:t>University Hospital of San Juan, Alica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Oval 36"/>
          <p:cNvSpPr/>
          <p:nvPr/>
        </p:nvSpPr>
        <p:spPr>
          <a:xfrm>
            <a:off x="6921360" y="136440"/>
            <a:ext cx="2106720" cy="7621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等线"/>
              </a:rPr>
              <a:t>South Karelia social and health care district (Ekso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Oval 40"/>
          <p:cNvSpPr/>
          <p:nvPr/>
        </p:nvSpPr>
        <p:spPr>
          <a:xfrm>
            <a:off x="1212840" y="4438800"/>
            <a:ext cx="1928880" cy="1035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等线"/>
              </a:rPr>
              <a:t>Centre for Dev. of Institutional and Homecare Services US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TextBox 37"/>
          <p:cNvSpPr/>
          <p:nvPr/>
        </p:nvSpPr>
        <p:spPr>
          <a:xfrm rot="20835600">
            <a:off x="9100440" y="433080"/>
            <a:ext cx="26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atient safety managers &amp; coordin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TextBox 38"/>
          <p:cNvSpPr/>
          <p:nvPr/>
        </p:nvSpPr>
        <p:spPr>
          <a:xfrm rot="1039800">
            <a:off x="192240" y="169560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xperts in information and compu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TextBox 39"/>
          <p:cNvSpPr/>
          <p:nvPr/>
        </p:nvSpPr>
        <p:spPr>
          <a:xfrm rot="20835600">
            <a:off x="10139040" y="2485800"/>
            <a:ext cx="177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TextBox 41"/>
          <p:cNvSpPr/>
          <p:nvPr/>
        </p:nvSpPr>
        <p:spPr>
          <a:xfrm rot="20416200">
            <a:off x="37080" y="400176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ealth &amp; social care educ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TextBox 42"/>
          <p:cNvSpPr/>
          <p:nvPr/>
        </p:nvSpPr>
        <p:spPr>
          <a:xfrm rot="1267800">
            <a:off x="10230840" y="353052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ront line health &amp; social care profession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TextBox 43"/>
          <p:cNvSpPr/>
          <p:nvPr/>
        </p:nvSpPr>
        <p:spPr>
          <a:xfrm rot="885600">
            <a:off x="10139040" y="588168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search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TextBox 39"/>
          <p:cNvSpPr/>
          <p:nvPr/>
        </p:nvSpPr>
        <p:spPr>
          <a:xfrm rot="21043800">
            <a:off x="128160" y="2825640"/>
            <a:ext cx="23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hief executive officers in health ca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TextBox 38"/>
          <p:cNvSpPr/>
          <p:nvPr/>
        </p:nvSpPr>
        <p:spPr>
          <a:xfrm rot="348000">
            <a:off x="228600" y="581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xperts in technology and simu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TextBox 39"/>
          <p:cNvSpPr/>
          <p:nvPr/>
        </p:nvSpPr>
        <p:spPr>
          <a:xfrm rot="20835600">
            <a:off x="1711080" y="3276360"/>
            <a:ext cx="177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TextBox 39"/>
          <p:cNvSpPr/>
          <p:nvPr/>
        </p:nvSpPr>
        <p:spPr>
          <a:xfrm rot="1109400">
            <a:off x="4216680" y="634644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0480" y="-54000"/>
            <a:ext cx="2681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  </a:t>
            </a: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Picture 2" descr=""/>
          <p:cNvPicPr/>
          <p:nvPr/>
        </p:nvPicPr>
        <p:blipFill>
          <a:blip r:embed="rId1"/>
          <a:srcRect l="0" t="2838" r="27531" b="0"/>
          <a:stretch/>
        </p:blipFill>
        <p:spPr>
          <a:xfrm>
            <a:off x="3552840" y="415800"/>
            <a:ext cx="4813200" cy="5160960"/>
          </a:xfrm>
          <a:prstGeom prst="rect">
            <a:avLst/>
          </a:prstGeom>
          <a:ln w="0">
            <a:noFill/>
          </a:ln>
        </p:spPr>
      </p:pic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0480" y="-54000"/>
            <a:ext cx="2681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  </a:t>
            </a: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Place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57" name="Picture 6" descr=""/>
          <p:cNvPicPr/>
          <p:nvPr/>
        </p:nvPicPr>
        <p:blipFill>
          <a:blip r:embed="rId2"/>
          <a:stretch/>
        </p:blipFill>
        <p:spPr>
          <a:xfrm>
            <a:off x="757080" y="1344600"/>
            <a:ext cx="1713240" cy="9619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8" descr=""/>
          <p:cNvPicPr/>
          <p:nvPr/>
        </p:nvPicPr>
        <p:blipFill>
          <a:blip r:embed="rId3"/>
          <a:stretch/>
        </p:blipFill>
        <p:spPr>
          <a:xfrm>
            <a:off x="8664480" y="2610000"/>
            <a:ext cx="1619280" cy="10285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9" descr=""/>
          <p:cNvPicPr/>
          <p:nvPr/>
        </p:nvPicPr>
        <p:blipFill>
          <a:blip r:embed="rId4"/>
          <a:stretch/>
        </p:blipFill>
        <p:spPr>
          <a:xfrm>
            <a:off x="9655200" y="4782960"/>
            <a:ext cx="1900080" cy="12081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0" descr=""/>
          <p:cNvPicPr/>
          <p:nvPr/>
        </p:nvPicPr>
        <p:blipFill>
          <a:blip r:embed="rId5"/>
          <a:stretch/>
        </p:blipFill>
        <p:spPr>
          <a:xfrm>
            <a:off x="757080" y="4881600"/>
            <a:ext cx="1887840" cy="11095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1" descr=""/>
          <p:cNvPicPr/>
          <p:nvPr/>
        </p:nvPicPr>
        <p:blipFill>
          <a:blip r:embed="rId6"/>
          <a:stretch/>
        </p:blipFill>
        <p:spPr>
          <a:xfrm>
            <a:off x="7802640" y="5656320"/>
            <a:ext cx="1671480" cy="10573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2" descr=""/>
          <p:cNvPicPr/>
          <p:nvPr/>
        </p:nvPicPr>
        <p:blipFill>
          <a:blip r:embed="rId7"/>
          <a:stretch/>
        </p:blipFill>
        <p:spPr>
          <a:xfrm>
            <a:off x="10283760" y="1581120"/>
            <a:ext cx="1619280" cy="10288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5" descr=""/>
          <p:cNvPicPr/>
          <p:nvPr/>
        </p:nvPicPr>
        <p:blipFill>
          <a:blip r:embed="rId8"/>
          <a:stretch/>
        </p:blipFill>
        <p:spPr>
          <a:xfrm>
            <a:off x="10434600" y="3078000"/>
            <a:ext cx="1619280" cy="10288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6" descr=""/>
          <p:cNvPicPr/>
          <p:nvPr/>
        </p:nvPicPr>
        <p:blipFill>
          <a:blip r:embed="rId9"/>
          <a:stretch/>
        </p:blipFill>
        <p:spPr>
          <a:xfrm>
            <a:off x="4340160" y="5656320"/>
            <a:ext cx="1619280" cy="1028520"/>
          </a:xfrm>
          <a:prstGeom prst="rect">
            <a:avLst/>
          </a:prstGeom>
          <a:ln w="0">
            <a:noFill/>
          </a:ln>
        </p:spPr>
      </p:pic>
      <p:cxnSp>
        <p:nvCxnSpPr>
          <p:cNvPr id="965" name="Straight Arrow Connector 19"/>
          <p:cNvCxnSpPr/>
          <p:nvPr/>
        </p:nvCxnSpPr>
        <p:spPr>
          <a:xfrm flipH="1" flipV="1">
            <a:off x="6485760" y="2025000"/>
            <a:ext cx="2840760" cy="336132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66" name="Straight Arrow Connector 21"/>
          <p:cNvCxnSpPr/>
          <p:nvPr/>
        </p:nvCxnSpPr>
        <p:spPr>
          <a:xfrm flipH="1" flipV="1">
            <a:off x="7329240" y="1257120"/>
            <a:ext cx="2015280" cy="83880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967" name="Straight Arrow Connector 2"/>
          <p:cNvCxnSpPr/>
          <p:nvPr/>
        </p:nvCxnSpPr>
        <p:spPr>
          <a:xfrm flipV="1">
            <a:off x="2768400" y="4628520"/>
            <a:ext cx="1889640" cy="757800"/>
          </a:xfrm>
          <a:prstGeom prst="straightConnector1">
            <a:avLst/>
          </a:prstGeom>
          <a:ln w="31680">
            <a:solidFill>
              <a:srgbClr val="c55a11"/>
            </a:solidFill>
            <a:miter/>
            <a:tailEnd len="med" type="triangle" w="med"/>
          </a:ln>
        </p:spPr>
      </p:cxnSp>
      <p:cxnSp>
        <p:nvCxnSpPr>
          <p:cNvPr id="968" name="Straight Arrow Connector 4"/>
          <p:cNvCxnSpPr/>
          <p:nvPr/>
        </p:nvCxnSpPr>
        <p:spPr>
          <a:xfrm flipV="1">
            <a:off x="5328720" y="4214520"/>
            <a:ext cx="801000" cy="1413360"/>
          </a:xfrm>
          <a:prstGeom prst="straightConnector1">
            <a:avLst/>
          </a:prstGeom>
          <a:ln w="31680">
            <a:solidFill>
              <a:srgbClr val="548235"/>
            </a:solidFill>
            <a:miter/>
            <a:tailEnd len="med" type="triangle" w="med"/>
          </a:ln>
        </p:spPr>
      </p:cxnSp>
      <p:cxnSp>
        <p:nvCxnSpPr>
          <p:cNvPr id="969" name="Straight Arrow Connector 10"/>
          <p:cNvCxnSpPr/>
          <p:nvPr/>
        </p:nvCxnSpPr>
        <p:spPr>
          <a:xfrm flipV="1">
            <a:off x="2768400" y="2305800"/>
            <a:ext cx="2189880" cy="69156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970" name="Picture 4" descr=""/>
          <p:cNvPicPr/>
          <p:nvPr/>
        </p:nvPicPr>
        <p:blipFill>
          <a:blip r:embed="rId10"/>
          <a:stretch/>
        </p:blipFill>
        <p:spPr>
          <a:xfrm>
            <a:off x="255600" y="2570040"/>
            <a:ext cx="2513160" cy="811440"/>
          </a:xfrm>
          <a:prstGeom prst="rect">
            <a:avLst/>
          </a:prstGeom>
          <a:ln w="0">
            <a:noFill/>
          </a:ln>
        </p:spPr>
      </p:pic>
      <p:pic>
        <p:nvPicPr>
          <p:cNvPr id="971" name="Kuva 2" descr="image003"/>
          <p:cNvPicPr/>
          <p:nvPr/>
        </p:nvPicPr>
        <p:blipFill>
          <a:blip r:embed="rId11"/>
          <a:stretch/>
        </p:blipFill>
        <p:spPr>
          <a:xfrm>
            <a:off x="11069640" y="168120"/>
            <a:ext cx="833400" cy="12765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23" descr="The Newcastle Upon Tyne NHS Foundation Trust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96880" y="3587760"/>
            <a:ext cx="2346480" cy="598320"/>
          </a:xfrm>
          <a:prstGeom prst="rect">
            <a:avLst/>
          </a:prstGeom>
          <a:ln w="0">
            <a:noFill/>
          </a:ln>
        </p:spPr>
      </p:pic>
      <p:pic>
        <p:nvPicPr>
          <p:cNvPr id="973" name="Google Shape;155;p18" descr=""/>
          <p:cNvPicPr/>
          <p:nvPr/>
        </p:nvPicPr>
        <p:blipFill>
          <a:blip r:embed="rId14"/>
          <a:stretch/>
        </p:blipFill>
        <p:spPr>
          <a:xfrm>
            <a:off x="8664480" y="522360"/>
            <a:ext cx="1887480" cy="89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92040" y="184320"/>
            <a:ext cx="1131264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SLIPPS: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Ethical considerations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5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Shape 139"/>
          <p:cNvSpPr/>
          <p:nvPr/>
        </p:nvSpPr>
        <p:spPr>
          <a:xfrm>
            <a:off x="425520" y="1698480"/>
            <a:ext cx="10841040" cy="37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pproval granted from all participating Univers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missions gained from Health care organis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ach partner has gained any other appropriate approv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ata protection issues attended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udents consent to LER being used in SLIP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7" name="Content Placeholder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9817200" y="4122720"/>
            <a:ext cx="190476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25160" y="39240"/>
            <a:ext cx="11312280" cy="13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SLIPPS: Students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9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Shape 139"/>
          <p:cNvSpPr/>
          <p:nvPr/>
        </p:nvSpPr>
        <p:spPr>
          <a:xfrm>
            <a:off x="425520" y="1071720"/>
            <a:ext cx="1084104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463"/>
              </a:spcBef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833400" y="1071720"/>
          <a:ext cx="11090160" cy="5684760"/>
        </p:xfrm>
        <a:graphic>
          <a:graphicData uri="http://schemas.openxmlformats.org/drawingml/2006/table">
            <a:tbl>
              <a:tblPr/>
              <a:tblGrid>
                <a:gridCol w="2090880"/>
                <a:gridCol w="3251160"/>
                <a:gridCol w="2897280"/>
                <a:gridCol w="2850840"/>
              </a:tblGrid>
              <a:tr h="13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sing:  4 typ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dult, Children's, Learning Disabilities, Mental 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pre-registration, undergraduat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dwif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Pre-registration, undergradu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ysiotherapy (Masters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9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n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General Bachelor`s degre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ysio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achelor`s degre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cial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achelor`s degree, Master`s degre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9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p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undergraduate nursing studen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trition/Masters in Health Scienc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s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d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dwifery/Obstetr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r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General BS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sing (BSc) learning disab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cial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SLIPPS</a:t>
            </a: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logic model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3" name="Down Arrow 5"/>
          <p:cNvSpPr/>
          <p:nvPr/>
        </p:nvSpPr>
        <p:spPr>
          <a:xfrm rot="16200000">
            <a:off x="6064200" y="-119160"/>
            <a:ext cx="731880" cy="7500960"/>
          </a:xfrm>
          <a:prstGeom prst="downArrow">
            <a:avLst>
              <a:gd name="adj1" fmla="val 50000"/>
              <a:gd name="adj2" fmla="val 20593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Rounded Rectangle 6"/>
          <p:cNvSpPr/>
          <p:nvPr/>
        </p:nvSpPr>
        <p:spPr>
          <a:xfrm>
            <a:off x="8470800" y="2230560"/>
            <a:ext cx="1446480" cy="3117600"/>
          </a:xfrm>
          <a:custGeom>
            <a:avLst/>
            <a:gdLst>
              <a:gd name="textAreaLeft" fmla="*/ 70560 w 1446480"/>
              <a:gd name="textAreaRight" fmla="*/ 1375920 w 1446480"/>
              <a:gd name="textAreaTop" fmla="*/ 70560 h 3117600"/>
              <a:gd name="textAreaBottom" fmla="*/ 3047040 h 3117600"/>
            </a:gdLst>
            <a:ahLst/>
            <a:rect l="textAreaLeft" t="textAreaTop" r="textAreaRight" b="textAreaBottom"/>
            <a:pathLst>
              <a:path w="21600" h="46548">
                <a:moveTo>
                  <a:pt x="3600" y="0"/>
                </a:moveTo>
                <a:arcTo wR="3600" hR="3600" stAng="16200000" swAng="-5400000"/>
                <a:lnTo>
                  <a:pt x="0" y="42948"/>
                </a:lnTo>
                <a:arcTo wR="3600" hR="3600" stAng="10800000" swAng="-5400000"/>
                <a:lnTo>
                  <a:pt x="18000" y="465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evelopment of open access resourc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Rounded Rectangle 7"/>
          <p:cNvSpPr/>
          <p:nvPr/>
        </p:nvSpPr>
        <p:spPr>
          <a:xfrm>
            <a:off x="1730520" y="2212920"/>
            <a:ext cx="1560240" cy="3117960"/>
          </a:xfrm>
          <a:custGeom>
            <a:avLst/>
            <a:gdLst>
              <a:gd name="textAreaLeft" fmla="*/ 75960 w 1560240"/>
              <a:gd name="textAreaRight" fmla="*/ 1484280 w 1560240"/>
              <a:gd name="textAreaTop" fmla="*/ 75960 h 3117960"/>
              <a:gd name="textAreaBottom" fmla="*/ 3042000 h 3117960"/>
            </a:gdLst>
            <a:ahLst/>
            <a:rect l="textAreaLeft" t="textAreaTop" r="textAreaRight" b="textAreaBottom"/>
            <a:pathLst>
              <a:path w="21600" h="43160">
                <a:moveTo>
                  <a:pt x="3600" y="0"/>
                </a:moveTo>
                <a:arcTo wR="3600" hR="3600" stAng="16200000" swAng="-5400000"/>
                <a:lnTo>
                  <a:pt x="0" y="39560"/>
                </a:lnTo>
                <a:arcTo wR="3600" hR="3600" stAng="10800000" swAng="-5400000"/>
                <a:lnTo>
                  <a:pt x="18000" y="43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tudent completes Learning event record using SLIPPS to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(SLER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Rounded Rectangle 8"/>
          <p:cNvSpPr/>
          <p:nvPr/>
        </p:nvSpPr>
        <p:spPr>
          <a:xfrm>
            <a:off x="3398760" y="2143080"/>
            <a:ext cx="2301840" cy="3187800"/>
          </a:xfrm>
          <a:custGeom>
            <a:avLst/>
            <a:gdLst>
              <a:gd name="textAreaLeft" fmla="*/ 112320 w 2301840"/>
              <a:gd name="textAreaRight" fmla="*/ 2189520 w 2301840"/>
              <a:gd name="textAreaTop" fmla="*/ 112320 h 3187800"/>
              <a:gd name="textAreaBottom" fmla="*/ 3075480 h 3187800"/>
            </a:gdLst>
            <a:ahLst/>
            <a:rect l="textAreaLeft" t="textAreaTop" r="textAreaRight" b="textAreaBottom"/>
            <a:pathLst>
              <a:path w="21600" h="29912">
                <a:moveTo>
                  <a:pt x="3600" y="0"/>
                </a:moveTo>
                <a:arcTo wR="3600" hR="3600" stAng="16200000" swAng="-5400000"/>
                <a:lnTo>
                  <a:pt x="0" y="26312"/>
                </a:lnTo>
                <a:arcTo wR="3600" hR="3600" stAng="10800000" swAng="-5400000"/>
                <a:lnTo>
                  <a:pt x="18000" y="299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ocal platfor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creening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ultinat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ulti level Databas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Single s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Transnational: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(SLIPPS team shar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Public: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(open access SLERs from all site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Rounded Rectangle 9"/>
          <p:cNvSpPr/>
          <p:nvPr/>
        </p:nvSpPr>
        <p:spPr>
          <a:xfrm>
            <a:off x="7202520" y="2195640"/>
            <a:ext cx="1136520" cy="3152520"/>
          </a:xfrm>
          <a:custGeom>
            <a:avLst/>
            <a:gdLst>
              <a:gd name="textAreaLeft" fmla="*/ 55440 w 1136520"/>
              <a:gd name="textAreaRight" fmla="*/ 1081080 w 1136520"/>
              <a:gd name="textAreaTop" fmla="*/ 55440 h 3152520"/>
              <a:gd name="textAreaBottom" fmla="*/ 3097080 h 3152520"/>
            </a:gdLst>
            <a:ahLst/>
            <a:rect l="textAreaLeft" t="textAreaTop" r="textAreaRight" b="textAreaBottom"/>
            <a:pathLst>
              <a:path w="21600" h="59903">
                <a:moveTo>
                  <a:pt x="3600" y="0"/>
                </a:moveTo>
                <a:arcTo wR="3600" hR="3600" stAng="16200000" swAng="-5400000"/>
                <a:lnTo>
                  <a:pt x="0" y="56303"/>
                </a:lnTo>
                <a:arcTo wR="3600" hR="3600" stAng="10800000" swAng="-5400000"/>
                <a:lnTo>
                  <a:pt x="18000" y="599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eedback to HC/S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ounded Rectangle 10"/>
          <p:cNvSpPr/>
          <p:nvPr/>
        </p:nvSpPr>
        <p:spPr>
          <a:xfrm>
            <a:off x="5853240" y="2178000"/>
            <a:ext cx="1217520" cy="3152880"/>
          </a:xfrm>
          <a:custGeom>
            <a:avLst/>
            <a:gdLst>
              <a:gd name="textAreaLeft" fmla="*/ 59400 w 1217520"/>
              <a:gd name="textAreaRight" fmla="*/ 1158120 w 1217520"/>
              <a:gd name="textAreaTop" fmla="*/ 59400 h 3152880"/>
              <a:gd name="textAreaBottom" fmla="*/ 3093480 h 3152880"/>
            </a:gdLst>
            <a:ahLst/>
            <a:rect l="textAreaLeft" t="textAreaTop" r="textAreaRight" b="textAreaBottom"/>
            <a:pathLst>
              <a:path w="21600" h="55925">
                <a:moveTo>
                  <a:pt x="3600" y="0"/>
                </a:moveTo>
                <a:arcTo wR="3600" hR="3600" stAng="16200000" swAng="-5400000"/>
                <a:lnTo>
                  <a:pt x="0" y="52325"/>
                </a:lnTo>
                <a:arcTo wR="3600" hR="3600" stAng="10800000" swAng="-5400000"/>
                <a:lnTo>
                  <a:pt x="18000" y="55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alys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Rounded Rectangle 11"/>
          <p:cNvSpPr/>
          <p:nvPr/>
        </p:nvSpPr>
        <p:spPr>
          <a:xfrm>
            <a:off x="10180800" y="1868400"/>
            <a:ext cx="1670040" cy="3525840"/>
          </a:xfrm>
          <a:custGeom>
            <a:avLst/>
            <a:gdLst>
              <a:gd name="textAreaLeft" fmla="*/ 81360 w 1670040"/>
              <a:gd name="textAreaRight" fmla="*/ 1588680 w 1670040"/>
              <a:gd name="textAreaTop" fmla="*/ 81360 h 3525840"/>
              <a:gd name="textAreaBottom" fmla="*/ 3444480 h 3525840"/>
            </a:gdLst>
            <a:ahLst/>
            <a:rect l="textAreaLeft" t="textAreaTop" r="textAreaRight" b="textAreaBottom"/>
            <a:pathLst>
              <a:path w="21600" h="45597">
                <a:moveTo>
                  <a:pt x="3600" y="0"/>
                </a:moveTo>
                <a:arcTo wR="3600" hR="3600" stAng="16200000" swAng="-5400000"/>
                <a:lnTo>
                  <a:pt x="0" y="41997"/>
                </a:lnTo>
                <a:arcTo wR="3600" hR="3600" stAng="10800000" swAng="-5400000"/>
                <a:lnTo>
                  <a:pt x="18000" y="455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4823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LIPPS Virtual Learning Cen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Rounded Rectangle 12"/>
          <p:cNvSpPr/>
          <p:nvPr/>
        </p:nvSpPr>
        <p:spPr>
          <a:xfrm>
            <a:off x="317520" y="1965240"/>
            <a:ext cx="1292040" cy="3951360"/>
          </a:xfrm>
          <a:custGeom>
            <a:avLst/>
            <a:gdLst>
              <a:gd name="textAreaLeft" fmla="*/ 63000 w 1292040"/>
              <a:gd name="textAreaRight" fmla="*/ 1229040 w 1292040"/>
              <a:gd name="textAreaTop" fmla="*/ 63000 h 3951360"/>
              <a:gd name="textAreaBottom" fmla="*/ 3888360 h 3951360"/>
            </a:gdLst>
            <a:ahLst/>
            <a:rect l="textAreaLeft" t="textAreaTop" r="textAreaRight" b="textAreaBottom"/>
            <a:pathLst>
              <a:path w="21600" h="66045">
                <a:moveTo>
                  <a:pt x="3600" y="0"/>
                </a:moveTo>
                <a:arcTo wR="3600" hR="3600" stAng="16200000" swAng="-5400000"/>
                <a:lnTo>
                  <a:pt x="0" y="62445"/>
                </a:lnTo>
                <a:arcTo wR="3600" hR="3600" stAng="10800000" swAng="-5400000"/>
                <a:lnTo>
                  <a:pt x="18000" y="660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e699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tudent completes placement experience in H/S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52440" y="3130560"/>
            <a:ext cx="11477520" cy="19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e79"/>
                </a:solidFill>
                <a:latin typeface="Arial"/>
                <a:ea typeface="Arial"/>
              </a:rPr>
              <a:t>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haring </a:t>
            </a:r>
            <a:r>
              <a:rPr b="0" lang="en-GB" sz="4400" spc="-1" strike="noStrike">
                <a:solidFill>
                  <a:srgbClr val="2e75b6"/>
                </a:solidFill>
                <a:latin typeface="Arial"/>
                <a:ea typeface="Arial"/>
              </a:rPr>
              <a:t>L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earn</a:t>
            </a:r>
            <a:r>
              <a:rPr b="0" lang="en-GB" sz="4400" spc="-1" strike="noStrike">
                <a:solidFill>
                  <a:srgbClr val="2e75b6"/>
                </a:solidFill>
                <a:latin typeface="Arial"/>
                <a:ea typeface="Arial"/>
              </a:rPr>
              <a:t>I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ng from </a:t>
            </a:r>
            <a:r>
              <a:rPr b="0" lang="en-GB" sz="4400" spc="-1" strike="noStrike">
                <a:solidFill>
                  <a:srgbClr val="2e75b6"/>
                </a:solidFill>
                <a:latin typeface="Arial"/>
                <a:ea typeface="Arial"/>
              </a:rPr>
              <a:t>P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ractice to improve </a:t>
            </a:r>
            <a:r>
              <a:rPr b="0" lang="en-GB" sz="4400" spc="-1" strike="noStrike">
                <a:solidFill>
                  <a:srgbClr val="2e75b6"/>
                </a:solidFill>
                <a:latin typeface="Arial"/>
                <a:ea typeface="Arial"/>
              </a:rPr>
              <a:t>P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atient </a:t>
            </a:r>
            <a:r>
              <a:rPr b="0" lang="en-GB" sz="4400" spc="-1" strike="noStrike">
                <a:solidFill>
                  <a:srgbClr val="2e75b6"/>
                </a:solidFill>
                <a:latin typeface="Arial"/>
                <a:ea typeface="Arial"/>
              </a:rPr>
              <a:t>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afety </a:t>
            </a:r>
            <a:r>
              <a:rPr b="0" lang="en-GB" sz="4400" spc="-1" strike="noStrike">
                <a:solidFill>
                  <a:srgbClr val="2e75b6"/>
                </a:solidFill>
                <a:latin typeface="Arial"/>
                <a:ea typeface="Arial"/>
              </a:rPr>
              <a:t>(</a:t>
            </a:r>
            <a:r>
              <a:rPr b="0" i="1" lang="en-GB" sz="4400" spc="-1" strike="noStrike">
                <a:solidFill>
                  <a:srgbClr val="2e75b6"/>
                </a:solidFill>
                <a:latin typeface="Arial"/>
                <a:ea typeface="Arial"/>
              </a:rPr>
              <a:t>SLIPPS</a:t>
            </a:r>
            <a:r>
              <a:rPr b="0" lang="en-GB" sz="4400" spc="-1" strike="noStrike">
                <a:solidFill>
                  <a:srgbClr val="2e75b6"/>
                </a:solidFill>
                <a:latin typeface="Arial"/>
                <a:ea typeface="Arial"/>
              </a:rPr>
              <a:t>)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4000" spc="-1" strike="noStrike">
                <a:solidFill>
                  <a:srgbClr val="2e75b6"/>
                </a:solidFill>
                <a:latin typeface="Arial"/>
                <a:ea typeface="Arial"/>
              </a:rPr>
              <a:t>Project overview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1557360" y="5567400"/>
            <a:ext cx="914400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ssoc. Prof Alison Stev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SLIPPS Le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0" name="Picture 1" descr=""/>
          <p:cNvPicPr/>
          <p:nvPr/>
        </p:nvPicPr>
        <p:blipFill>
          <a:blip r:embed="rId1"/>
          <a:stretch/>
        </p:blipFill>
        <p:spPr>
          <a:xfrm>
            <a:off x="4867200" y="1647720"/>
            <a:ext cx="2259000" cy="267660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2" descr=""/>
          <p:cNvPicPr/>
          <p:nvPr/>
        </p:nvPicPr>
        <p:blipFill>
          <a:blip r:embed="rId2"/>
          <a:stretch/>
        </p:blipFill>
        <p:spPr>
          <a:xfrm>
            <a:off x="450720" y="5603760"/>
            <a:ext cx="3233880" cy="93024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4" descr=""/>
          <p:cNvPicPr/>
          <p:nvPr/>
        </p:nvPicPr>
        <p:blipFill>
          <a:blip r:embed="rId3"/>
          <a:stretch/>
        </p:blipFill>
        <p:spPr>
          <a:xfrm>
            <a:off x="9021600" y="5603760"/>
            <a:ext cx="263700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6" descr=""/>
          <p:cNvPicPr/>
          <p:nvPr/>
        </p:nvPicPr>
        <p:blipFill>
          <a:blip r:embed="rId1"/>
          <a:srcRect l="5398" t="15034" r="2936" b="23553"/>
          <a:stretch/>
        </p:blipFill>
        <p:spPr>
          <a:xfrm>
            <a:off x="324000" y="861840"/>
            <a:ext cx="6244920" cy="2352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24000" y="166320"/>
            <a:ext cx="113760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SLIPPS Websit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3" name="Rectangle 4"/>
          <p:cNvSpPr/>
          <p:nvPr/>
        </p:nvSpPr>
        <p:spPr>
          <a:xfrm>
            <a:off x="7967520" y="3452760"/>
            <a:ext cx="36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4" name="Picture 5" descr=""/>
          <p:cNvPicPr/>
          <p:nvPr/>
        </p:nvPicPr>
        <p:blipFill>
          <a:blip r:embed="rId2"/>
          <a:srcRect l="2497" t="0" r="0" b="0"/>
          <a:stretch/>
        </p:blipFill>
        <p:spPr>
          <a:xfrm>
            <a:off x="5600880" y="1996920"/>
            <a:ext cx="6379920" cy="430056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95" name="Picture 7" descr=""/>
          <p:cNvPicPr/>
          <p:nvPr/>
        </p:nvPicPr>
        <p:blipFill>
          <a:blip r:embed="rId3"/>
          <a:srcRect l="2330" t="13450" r="7119" b="7052"/>
          <a:stretch/>
        </p:blipFill>
        <p:spPr>
          <a:xfrm>
            <a:off x="324000" y="3452760"/>
            <a:ext cx="6530760" cy="3224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96" name="TextBox 1"/>
          <p:cNvSpPr/>
          <p:nvPr/>
        </p:nvSpPr>
        <p:spPr>
          <a:xfrm>
            <a:off x="6980400" y="1004760"/>
            <a:ext cx="47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https://www.slipps.e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71520" y="599760"/>
            <a:ext cx="113760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SLIPPS Learning centre</a:t>
            </a:r>
            <a:br>
              <a:rPr sz="3200"/>
            </a:br>
            <a:r>
              <a:rPr b="0" lang="en-GB" sz="3200" spc="-1" strike="noStrike">
                <a:solidFill>
                  <a:srgbClr val="2e75b6"/>
                </a:solidFill>
                <a:latin typeface="Arial"/>
                <a:ea typeface="Arial"/>
              </a:rPr>
              <a:t> https://www.slipps.eu/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98" name="Picture 2" descr=""/>
          <p:cNvPicPr/>
          <p:nvPr/>
        </p:nvPicPr>
        <p:blipFill>
          <a:blip r:embed="rId1"/>
          <a:srcRect l="6361" t="10338" r="57123" b="6432"/>
          <a:stretch/>
        </p:blipFill>
        <p:spPr>
          <a:xfrm>
            <a:off x="1150920" y="1409760"/>
            <a:ext cx="7999560" cy="51292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999" name="TextBox 3"/>
          <p:cNvSpPr/>
          <p:nvPr/>
        </p:nvSpPr>
        <p:spPr>
          <a:xfrm>
            <a:off x="9763200" y="1654200"/>
            <a:ext cx="21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eely available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0" name="Straight Arrow Connector 6"/>
          <p:cNvCxnSpPr>
            <a:stCxn id="999" idx="1"/>
          </p:cNvCxnSpPr>
          <p:nvPr/>
        </p:nvCxnSpPr>
        <p:spPr>
          <a:xfrm flipH="1">
            <a:off x="8000280" y="2438280"/>
            <a:ext cx="1762920" cy="185040"/>
          </a:xfrm>
          <a:prstGeom prst="straightConnector1">
            <a:avLst/>
          </a:prstGeom>
          <a:ln w="57240">
            <a:solidFill>
              <a:srgbClr val="5b9bd5"/>
            </a:solidFill>
            <a:miter/>
            <a:tailEnd len="med" type="triangle" w="med"/>
          </a:ln>
        </p:spPr>
      </p:cxn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336240" y="365040"/>
            <a:ext cx="11017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In summary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02" name="Content Placeholder 3" descr=""/>
          <p:cNvPicPr/>
          <p:nvPr/>
        </p:nvPicPr>
        <p:blipFill>
          <a:blip r:embed="rId1"/>
          <a:stretch/>
        </p:blipFill>
        <p:spPr>
          <a:xfrm>
            <a:off x="195120" y="1262160"/>
            <a:ext cx="8918640" cy="5052960"/>
          </a:xfrm>
          <a:prstGeom prst="rect">
            <a:avLst/>
          </a:prstGeom>
          <a:ln w="0">
            <a:noFill/>
          </a:ln>
        </p:spPr>
      </p:pic>
      <p:pic>
        <p:nvPicPr>
          <p:cNvPr id="1003" name="Diagram 2" descr=""/>
          <p:cNvPicPr/>
          <p:nvPr/>
        </p:nvPicPr>
        <p:blipFill>
          <a:blip r:embed="rId2"/>
          <a:stretch/>
        </p:blipFill>
        <p:spPr>
          <a:xfrm>
            <a:off x="8594640" y="506520"/>
            <a:ext cx="48229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88800" y="184320"/>
            <a:ext cx="11312640" cy="11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a35"/>
                </a:solidFill>
                <a:latin typeface="Arial"/>
                <a:ea typeface="Arial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05" name="Content Placeholder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483760" y="2690640"/>
            <a:ext cx="3338280" cy="395784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Shape 139"/>
          <p:cNvSpPr/>
          <p:nvPr/>
        </p:nvSpPr>
        <p:spPr>
          <a:xfrm>
            <a:off x="388800" y="1459080"/>
            <a:ext cx="11276280" cy="49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2463"/>
              </a:spcBef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2463"/>
              </a:spcBef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ssociate Prof Dr Alison Stev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partment of Nursing, Midwifery and Heal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aculty of Health and Life Sci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rthumbria Univers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ison.steven@northumbria.ac.u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ttps://www.slipps.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2463"/>
              </a:spcBef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90320" y="0"/>
            <a:ext cx="11312280" cy="11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a35"/>
                </a:solidFill>
                <a:latin typeface="Arial"/>
                <a:ea typeface="Arial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09" name="Content Placeholder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483760" y="2690640"/>
            <a:ext cx="3338280" cy="3957840"/>
          </a:xfrm>
          <a:prstGeom prst="rect">
            <a:avLst/>
          </a:prstGeom>
          <a:ln w="0">
            <a:noFill/>
          </a:ln>
        </p:spPr>
      </p:pic>
      <p:sp>
        <p:nvSpPr>
          <p:cNvPr id="1010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Shape 139"/>
          <p:cNvSpPr/>
          <p:nvPr/>
        </p:nvSpPr>
        <p:spPr>
          <a:xfrm>
            <a:off x="388800" y="874800"/>
            <a:ext cx="11517480" cy="55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sensi-Vicente J, Jiménez-Ruiz I, Vizcaya-Moreno MF. Medication Errors Involving Nursing Students: A Systematic Review. Nurse Educator. 2018;43(5):E1-E5. doi:10.1097/NNE.000000000000048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agnasco A, Timmins F, de Vries JMA, Aleo G, Zanini M, Catania G, Sasso L. Understanding and addressing missed care in clinical placements - implications for nursing students and nurse educators. Nurse Education Today, 2017; 56: 1-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agnasco A, Pagnucci N, Tolotti A, et al. (2014) The role of simulation in developing communication and gestural skills in medical students. BMC Medical Education 14: 106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agnasco A, Tibaldi L, Chirone P, et al. (2010) Patient safety culture: An Italian experience. Journal of Clinical Nursing 20(7–8): 1188–119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radley F, Steven A, and Ashcroft DM (2011) Learning about patient safety: recognizing the importance of the hidden curriculum in pharmacy education. American Journal of Pharmaceutical Education 2011; 75 (7) 1-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resswell, K, Howe, A,  Steven, A, Smith, P, Ashcroft, D, Fairhurst, K, Bradley, F,  Magnusson, C, McArthur, M, Pearson P and Sheikh A (2013) Patient safety in healthcare pre-registration educational curricula: multiple case study-based investigations of eight medicine, nursing, pharmacy and physiotherapy university courses, BMJ Quality &amp; Safety, doi:10.1136/bmjqs-2013-0019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iukka M, Hupli M and Turunen H (2018) How transformational leadership appears in action with adverse events? A study for Finnish nurse manager. Journal of Nursing Management 26: 639–6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ann, K., J. Gordon, and A. MacLeod. 2009. “Reflection and Reflective Practice in Health Professions Education: A Systematic Review.” Advances in Health Sciences Education 14 (4): 595–62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arvi Langari MN, Tella S, Smith N-J, Turunen H. Self-Assessment of Patient Safety Competence: A Questionnaire Survey of Final Year British and Finnish Pre-Registration Nursing Students. International Journal of Caring Sciences. 2017;10(3):1212-1223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88800" y="184320"/>
            <a:ext cx="11312640" cy="11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a35"/>
                </a:solidFill>
                <a:latin typeface="Arial"/>
                <a:ea typeface="Arial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13" name="Content Placeholder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483760" y="2690640"/>
            <a:ext cx="3338280" cy="3957840"/>
          </a:xfrm>
          <a:prstGeom prst="rect">
            <a:avLst/>
          </a:prstGeom>
          <a:ln w="0">
            <a:noFill/>
          </a:ln>
        </p:spPr>
      </p:pic>
      <p:sp>
        <p:nvSpPr>
          <p:cNvPr id="1014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Shape 139"/>
          <p:cNvSpPr/>
          <p:nvPr/>
        </p:nvSpPr>
        <p:spPr>
          <a:xfrm>
            <a:off x="388800" y="1155600"/>
            <a:ext cx="11276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earson, P., Steven, A., Howe, A., Sheikh, A., Ashcroft, D., Smith, P., 2010. Learning about patient safety: organizational context and culture in the education of health care professionals. Journal of Health Services Research &amp; Policy 15, 4–1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earson P, Steven A, Howe A, Sheikh A, Ashcroft D, Smith P on behalf of the Patient Safety Education Study Group  (2010) Learning about patient safety: organisational context and culture in the education of health care professionals, Journal of Health Services Research &amp; Policy,15(Supplement 1): 4—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aarikoski, M., Kaila, P., Lambrinou, E., Pérez Cañaveras, R. M., Tichelaar, E., Tomietto, M., &amp; Warne, T.  Students’ experiences of cooperation with nurse teacher during their clinical placements: An empirical study in a Western European context. Nurse Education in Practice. 2013;13(2):78-82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ahlström M, Partanen P, Azimirad M, Selander T, Turunen H. (2019) Patient participation in patient safety—An exploration of promoting factors. Journal of Nursing Management 27(1):84–9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even, A; Magnusson, C; Smith, P; Pearson, P H. (2014) Patient safety in nursing education: Contexts, tensions and feeling safe to learn, Nurse Education Today, 34, 277-284 http://dx.doi.org/10.1016/j.nedt.2013.04.02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even A., Tella S., Turunen H., Vizcaya-Moreno M.F., Pérez-Cañaveras R.M., Porras J., Bagnasco A, Sasso L., Myhre K, Sara-aho A., Ringstad Ø., Pearson P. (2019) Shared Learning from National to International Contexts: A Research and Innovation Collaboration to Enhance Education for Patient Safety.” Journal of Research in Nursing 24, no. 3–4 (June 2019): 149–64. doi:10.1177/174498711882462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ewart, J., 2008. To call or not to call: a judgement of risk by pre-registration house officers. Medical education 42, 938–944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8800" y="184320"/>
            <a:ext cx="11312640" cy="11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a35"/>
                </a:solidFill>
                <a:latin typeface="Arial"/>
                <a:ea typeface="Arial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17" name="Content Placeholder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483760" y="2690640"/>
            <a:ext cx="3338280" cy="3957840"/>
          </a:xfrm>
          <a:prstGeom prst="rect">
            <a:avLst/>
          </a:prstGeom>
          <a:ln w="0">
            <a:noFill/>
          </a:ln>
        </p:spPr>
      </p:pic>
      <p:sp>
        <p:nvSpPr>
          <p:cNvPr id="1018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Shape 139"/>
          <p:cNvSpPr/>
          <p:nvPr/>
        </p:nvSpPr>
        <p:spPr>
          <a:xfrm>
            <a:off x="388800" y="1459080"/>
            <a:ext cx="11276280" cy="49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ella S; Smith N-J; Partanena P ; Turunen H (2016) Work placements as learning environments for patient safety: Finnish and British preregistration nursing students’ important learning events Journal of Vocational Education and Training, 2016 VOL . 68, NO . 1, 51–6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ella S, Smith N, Partanen P, Jamookeeah D, Lamidi M, Turunen H. Learning to ensure patient safety in clinical settings: comparing Finnish and British nursing students’ perceptions.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Journal of Clinical Nursing (John Wiley &amp; Sons, Inc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. 2015;24(19-20):2954-2964. doi:10.1111/jocn.129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ella S, Smith N-J, Partanen P, Turunen H. Learning Patient Safety in Academic Settings: A Comparative Study of Finnish and British Nursing Students’ Perceptions.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Worldviews on Evidence-Based Nursing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. 2015;12(3):154-164. doi:10.1111/wvn.1208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urunen H, Partanen P, Kvist T, Miettinen M, Vehviläinen JK. Patient safety culture in acute care: A web-based survey of nurse managers’ and registered nurses’ views in four Finnish hospitals. International Journal of Nursing Practice 2013;19(6):609-617. doi:10.1111/ijn.12112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ingstad Ø. Understanding through experience: information, experience and understanding in clinical rehabilitation practice. Disability &amp; Rehabilitation. 2014;36(12):978-9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8971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Vizcaya-Moreno MF, Pérez-Cañaveras RM, De Juan J, Saarikoski M. Development and psychometric testing of the clinical learning environment, supervision and nurse teacher evaluation scale (CLES+T): The Spanish version. International Journal of Nursing Studies. 2015;52(1):361-367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11120" y="343080"/>
            <a:ext cx="1126008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Context: Harm and burde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4" name="Shape 139"/>
          <p:cNvSpPr/>
          <p:nvPr/>
        </p:nvSpPr>
        <p:spPr>
          <a:xfrm>
            <a:off x="411120" y="1438200"/>
            <a:ext cx="1149840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463"/>
              </a:spcBef>
              <a:spcAft>
                <a:spcPts val="601"/>
              </a:spcAft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ound 1 in 10 patients in high income countries suffer harm - nearly 50% are avoidable (WH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spcAft>
                <a:spcPts val="601"/>
              </a:spcAft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re is a 1 in 300 chance of a patient being harmed during health care (WH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spcAft>
                <a:spcPts val="601"/>
              </a:spcAft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spital infections affect 14 of every 100 patients admitted to hospit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spcAft>
                <a:spcPts val="601"/>
              </a:spcAft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dministration errors -  Account for up to half of all medical errors in primary c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spcAft>
                <a:spcPts val="601"/>
              </a:spcAft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tient Harm - 1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leading cause of global disease burden comparable with diseases lik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uberculos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lari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spcAft>
                <a:spcPts val="601"/>
              </a:spcAft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5" name="Picture 4" descr=""/>
          <p:cNvPicPr/>
          <p:nvPr/>
        </p:nvPicPr>
        <p:blipFill>
          <a:blip r:embed="rId1"/>
          <a:stretch/>
        </p:blipFill>
        <p:spPr>
          <a:xfrm>
            <a:off x="9820440" y="5254560"/>
            <a:ext cx="2206440" cy="145116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1" descr=""/>
          <p:cNvPicPr/>
          <p:nvPr/>
        </p:nvPicPr>
        <p:blipFill>
          <a:blip r:embed="rId2"/>
          <a:stretch/>
        </p:blipFill>
        <p:spPr>
          <a:xfrm>
            <a:off x="623880" y="5349960"/>
            <a:ext cx="1719360" cy="12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10760" y="343080"/>
            <a:ext cx="10882440" cy="118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Context: Global cos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8" name="Shape 139"/>
          <p:cNvSpPr/>
          <p:nvPr/>
        </p:nvSpPr>
        <p:spPr>
          <a:xfrm>
            <a:off x="411120" y="1851120"/>
            <a:ext cx="11498400" cy="46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463"/>
              </a:spcBef>
              <a:spcAft>
                <a:spcPts val="601"/>
              </a:spcAft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Globally - 15% of heath spending is wasted on dealing with adverse ev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spcAft>
                <a:spcPts val="601"/>
              </a:spcAft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search suggests additional hospitalization, litigation costs, infections, disability, lost productivity and medical expenses cost some countries ~ US$ 19 billion a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Globally - cost of dealing with medication err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s estimated at US$ 42 million a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9" name="Picture 2" descr=""/>
          <p:cNvPicPr/>
          <p:nvPr/>
        </p:nvPicPr>
        <p:blipFill>
          <a:blip r:embed="rId1"/>
          <a:stretch/>
        </p:blipFill>
        <p:spPr>
          <a:xfrm>
            <a:off x="8091360" y="4457880"/>
            <a:ext cx="335916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10760" y="343080"/>
            <a:ext cx="10882440" cy="118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Context: Investment and development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Shape 139"/>
          <p:cNvSpPr/>
          <p:nvPr/>
        </p:nvSpPr>
        <p:spPr>
          <a:xfrm>
            <a:off x="411120" y="2097000"/>
            <a:ext cx="11498400" cy="43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463"/>
              </a:spcBef>
              <a:spcAft>
                <a:spcPts val="1199"/>
              </a:spcAft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vestments to reduce patient safety incidents - USA safety improvement led to estimated US$28 billion saving between 2010-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spcAft>
                <a:spcPts val="1199"/>
              </a:spcAft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ducation, research and collaboration - crucial to developing health and social care practice and improving patient safe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spcAft>
                <a:spcPts val="1199"/>
              </a:spcAft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O Multi-professional Patient Safety Curriculum Guide (201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2" name="Picture 1" descr=""/>
          <p:cNvPicPr/>
          <p:nvPr/>
        </p:nvPicPr>
        <p:blipFill>
          <a:blip r:embed="rId1"/>
          <a:stretch/>
        </p:blipFill>
        <p:spPr>
          <a:xfrm>
            <a:off x="10779120" y="512640"/>
            <a:ext cx="1130400" cy="133848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5" descr=""/>
          <p:cNvPicPr/>
          <p:nvPr/>
        </p:nvPicPr>
        <p:blipFill>
          <a:blip r:embed="rId2"/>
          <a:stretch/>
        </p:blipFill>
        <p:spPr>
          <a:xfrm>
            <a:off x="10147320" y="5789520"/>
            <a:ext cx="1762200" cy="8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10760" y="343080"/>
            <a:ext cx="108824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Context: Human cos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5" name="Shape 139"/>
          <p:cNvSpPr/>
          <p:nvPr/>
        </p:nvSpPr>
        <p:spPr>
          <a:xfrm>
            <a:off x="1235160" y="1851120"/>
            <a:ext cx="10674360" cy="46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amily members, relatives and loved 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a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rganis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0280">
              <a:lnSpc>
                <a:spcPct val="120000"/>
              </a:lnSpc>
              <a:spcBef>
                <a:spcPts val="2463"/>
              </a:spcBef>
              <a:tabLst>
                <a:tab algn="l" pos="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20000"/>
              </a:lnSpc>
              <a:spcBef>
                <a:spcPts val="2463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  <a:tab algn="l" pos="7234200"/>
                <a:tab algn="l" pos="7578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6" name="Picture 1" descr=""/>
          <p:cNvPicPr/>
          <p:nvPr/>
        </p:nvPicPr>
        <p:blipFill>
          <a:blip r:embed="rId1"/>
          <a:stretch/>
        </p:blipFill>
        <p:spPr>
          <a:xfrm>
            <a:off x="10520280" y="512640"/>
            <a:ext cx="1130400" cy="133848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5" descr=""/>
          <p:cNvPicPr/>
          <p:nvPr/>
        </p:nvPicPr>
        <p:blipFill>
          <a:blip r:embed="rId2"/>
          <a:stretch/>
        </p:blipFill>
        <p:spPr>
          <a:xfrm>
            <a:off x="8793000" y="4871880"/>
            <a:ext cx="28576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55480" y="401760"/>
            <a:ext cx="10815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Student experienc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514080" y="1596960"/>
            <a:ext cx="10542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29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rom previous SLIPPS team members research we know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earning about patient safety takes place in and across both academic and practice placement setting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udent are involved in patient safety events of varying degrees – from best practice to adverse ev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ulture may influence student learning and lead to perpetuation of work practi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Pearson, Steven et al 2009, 2010, Cresswell, Steven, Pearson et al. 2013, Steven et al. 2014, Tella et al 2017,2015, 2016, Bagnasco 2010, 2014,2017, Turunen 2013, 2018, 2019, Vizcaya-Moreno 2018, Pérez-Cañaveras 2013,Vizcaya-Moreno MF, Pérez-Cañaveras 2015, Ringstad 2014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214560">
              <a:lnSpc>
                <a:spcPct val="90000"/>
              </a:lnSpc>
              <a:spcBef>
                <a:spcPts val="24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0" name="Picture 5" descr="E:\SLIPPS W and U DRIVEs MAY 18\Erasmus Plus SLIPPS\Web stuff\Photos\UNN Images\nursing-adult-mnurs_3.jpg"/>
          <p:cNvPicPr/>
          <p:nvPr/>
        </p:nvPicPr>
        <p:blipFill>
          <a:blip r:embed="rId1"/>
          <a:stretch/>
        </p:blipFill>
        <p:spPr>
          <a:xfrm>
            <a:off x="9945720" y="689040"/>
            <a:ext cx="181908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39840" y="365040"/>
            <a:ext cx="11013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Student learning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339480" y="1735200"/>
            <a:ext cx="11451960" cy="45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9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udents often feel that there is a gap between learning about patient safety in academic and clinical setting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earson, Steven et al 2009, Cresswell et a.. 2013, Steven et al. 2014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9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udents learn in a variety of care organisations - but their experiences and learning are not systematically utilised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(Tella et al. 2015a,b, 2016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9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ensions exist in learning across academic, organisational and practice contexts, which can impact on students ‘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motional safety for lear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’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(Steven et al 201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3" name="Picture 5" descr="E:\SLIPPS W and U DRIVEs MAY 18\Erasmus Plus SLIPPS\TMG Meetings\Face to face TMG meetings\Genova March 2018\IMG_20180307_141148.jpg"/>
          <p:cNvPicPr/>
          <p:nvPr/>
        </p:nvPicPr>
        <p:blipFill>
          <a:blip r:embed="rId1"/>
          <a:stretch/>
        </p:blipFill>
        <p:spPr>
          <a:xfrm>
            <a:off x="10010880" y="5192640"/>
            <a:ext cx="17809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36480" y="1634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e75b6"/>
                </a:solidFill>
                <a:latin typeface="Arial"/>
                <a:ea typeface="Arial"/>
              </a:rPr>
              <a:t>Student learning: reflection in and on action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466560" y="1564920"/>
            <a:ext cx="1145232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flecting on errors (and best practice) helps to understand complex situations and assists learning from the experienc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(Mann, Gordon, and MacLeod 2009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udents are in a special situation the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serve the ‘daily life’ of health and social care organis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24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earn as part of a team in direct contact with clients and patient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24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perience a range of events and learn from experience  –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ut this experience is often not utilised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24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6" name="Picture 2" descr=""/>
          <p:cNvPicPr/>
          <p:nvPr/>
        </p:nvPicPr>
        <p:blipFill>
          <a:blip r:embed="rId1"/>
          <a:stretch/>
        </p:blipFill>
        <p:spPr>
          <a:xfrm>
            <a:off x="10076040" y="577800"/>
            <a:ext cx="153324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8T10:49:07Z</dcterms:created>
  <dc:creator>Alison Steven</dc:creator>
  <dc:description/>
  <dc:language>en-US</dc:language>
  <cp:lastModifiedBy>Alison Steven</cp:lastModifiedBy>
  <cp:lastPrinted>2017-11-16T13:48:34Z</cp:lastPrinted>
  <dcterms:modified xsi:type="dcterms:W3CDTF">2019-06-13T13:39:01Z</dcterms:modified>
  <cp:revision>334</cp:revision>
  <dc:subject/>
  <dc:title>Education for Patient Safety:  Sharing learning from national to international contexts</dc:title>
</cp:coreProperties>
</file>